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BBA0-29F9-4C74-B161-EADDD3BCD8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1637-8398-4D14-A894-10449FB263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C09-2780-4ABE-9716-DE538842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402-ABA1-48DB-9FEB-3BD0FC48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219-3956-4C30-8A21-C0F23BA5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EB4-C844-445B-B669-46BE8C17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84CA-3924-4417-A409-A5483C4A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DAEC-0564-4CFF-A2E0-C01CCC5A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A16E-E987-40CC-A458-EBB5E449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CF7B-82C4-4688-A73A-5DBEA92E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84C1-29B5-4709-98F6-348295EB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3C45-AE90-4B78-8587-758A443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C45E-B34B-4920-BEDD-CDDE425F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B20-FC2F-4B25-BB09-48AE0BAF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569D-2A10-46EA-BF70-D3ED524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A297-292A-4046-BA9F-A694C0C3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DC6C-E10A-42A9-BAC0-991B269F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F25B-DAA1-4B4C-9580-34B68061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F6BA-C560-4EEF-8D3E-ECE4EF27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BB6E7-5B02-4E97-AC8A-D6AC4B29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E5D1-9196-435C-87DB-547AE341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1F8B-2A7A-4FB6-94E3-92C125F1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595C-CC9C-408E-8EFE-872CCC24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A0A84-E3EF-40BD-A2E1-4CE36557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B19-01DF-4FF9-B519-6C552756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85D9-A5C3-4C3F-B37D-FDD95029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DA3D-362A-49B1-8395-B4518A14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A80C-356B-4D3B-BB5E-EE07579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D8C09-BC9A-4294-9F99-6FF937A3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4CF8-743F-4E37-9AEE-97E48498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5D7A-D376-4211-BDA8-887BBC1F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3C27-89F9-4760-A76F-6DAFB1C3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E2CF-FC1B-4C72-936F-30EEB6F7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3929-523E-4863-A9F1-A5E403AD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C9CD-7351-4D83-B18E-E763B886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8BC-0EF6-47BF-9EEA-BDFE2065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B2BB3-07D9-4B50-B887-53EB94AB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38184-E654-44DD-8A77-34FF24DD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A709-5A28-4F78-B869-219FAB1C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34F81-81F8-40DA-BBEA-B7AA84D0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DC5F3-31A2-4B8F-B7C9-FE0B3730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1523-8469-4C0C-9BBA-14E2AF02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A9B8-6A7F-4720-BA74-503E0741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6D861-E6C0-4CDB-9CD4-34E5F380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C16F-851C-49CD-9CB2-E3E99D7B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8E85-491B-4DE8-9055-7C41C96F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D12-C550-4CC1-BA82-98D46A2A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C9D26-228D-48C9-A6F3-BCB77269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565D-F6FD-42CF-AB7F-36370DCA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758C6-F9E3-4CDF-8448-B6E89E6B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7BDCF-1ECD-4915-94B6-77069349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1A9F-F45A-43C0-A375-E504F9E0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934C4-2926-4F9E-9D4D-13A4FC6A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C6ED7-68F2-480C-9005-7084EF0B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42979-B9C3-43AE-9ADC-17F69A3A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AEDE1-FDC1-4FFE-AA0D-0E9AEA3B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787EC-7D75-455B-8AA0-AF5F5F79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DAB-1071-48FB-8328-DC017815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60A1B-1031-4731-A3CD-BFAC77D3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E0F-FE01-4703-8B43-317BBBD2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413-DE36-4F78-9302-FE3398F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DD3-8912-4AF9-97F2-A45A070A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047F-5444-4CE5-A9DE-9B8F435A5F0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EBAE-9442-47C5-8C36-654F8525277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2BA2-1CE7-456D-8A30-306337B2BC6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15B5-C7F9-460E-A79F-14E8A68FB5B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B703-70AF-49D2-8D74-EE2D6C6B644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79995\Desktop\изонить\2547667f45b75ffbd017fdba52a124e9.jpg"/>
          <p:cNvPicPr/>
          <p:nvPr/>
        </p:nvPicPr>
        <p:blipFill>
          <a:blip r:embed="rId2"/>
          <a:stretch/>
        </p:blipFill>
        <p:spPr>
          <a:xfrm>
            <a:off x="250920" y="2852640"/>
            <a:ext cx="55148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ы работ «Аквариу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79995\Desktop\изонить\61c582c91fb1a80d45f6a6bcc41ece5b.jpg.jpg"/>
          <p:cNvPicPr/>
          <p:nvPr/>
        </p:nvPicPr>
        <p:blipFill>
          <a:blip r:embed="rId1"/>
          <a:stretch/>
        </p:blipFill>
        <p:spPr>
          <a:xfrm>
            <a:off x="250920" y="1197000"/>
            <a:ext cx="8893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Аквариум»3-4ч\948b751e6e52f3c074666649826f7db3.png"/>
          <p:cNvPicPr/>
          <p:nvPr/>
        </p:nvPicPr>
        <p:blipFill>
          <a:blip r:embed="rId1"/>
          <a:stretch/>
        </p:blipFill>
        <p:spPr>
          <a:xfrm>
            <a:off x="1403280" y="1077840"/>
            <a:ext cx="6913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07T10:13:07Z</dcterms:modified>
  <cp:revision>32</cp:revision>
  <dc:subject/>
  <dc:title>ТВОРЧЕСКАЯ ДЕЯТЕЛЬНОСТЬ: ЗНАКОМСТВО С ТЕХНИКОЙ ИЗОНИТЬ</dc:title>
</cp:coreProperties>
</file>