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139A-C82C-40C7-8045-81B61529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9DB03-500B-4B0F-99CF-B6542D1E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CE61-0DFA-43E6-8948-3140EF6E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4CD1-34AC-458B-AABD-836514DD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A3CA-3741-4D72-BEFF-AB386A63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FCCF-31EE-4102-89D4-F63F571D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D322-F207-467A-969F-D854ACD2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33AE-B96F-4B1F-B533-3276DE12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D4BC-556A-448B-8679-5EC70D66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766F-C87F-497D-8597-88C4C748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59FC-6587-4AAF-A00C-846362A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0274-23DC-41A0-BE6E-A07396F2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1D2C-8B99-4B69-A6AF-5AADB36D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1A17-7A49-4319-BBCB-A07A88F9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D7A6-0097-4D55-9AB2-86D851F4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847C-78F1-4C06-82FD-46FFAAAE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2D9D-01DF-4B41-8FE6-5F3BED0E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0766-2CFC-41AA-B575-812F36A1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E44B-5098-4056-94D5-54BD7A7C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6AAE0-ABD1-4F5F-9A66-7DBF11EF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1105-D9DC-40C3-8C27-3A476B52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A3FC-BDC0-426C-B903-40B20716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18578-A2BC-49EB-A747-F9FAAE6F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3497-2134-470D-AC44-508A5FCF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2CFD-6AFA-4CAF-9BEE-6A433CAB27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BD2B-31E8-41A3-BFAC-26B393AD4B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7"/>
          <p:cNvGrpSpPr/>
          <p:nvPr/>
        </p:nvGrpSpPr>
        <p:grpSpPr>
          <a:xfrm>
            <a:off x="395280" y="476280"/>
            <a:ext cx="8424360" cy="5759280"/>
            <a:chOff x="395280" y="476280"/>
            <a:chExt cx="8424360" cy="575928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5669280" y="1614960"/>
              <a:ext cx="1152360" cy="3480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4577040" y="2707200"/>
              <a:ext cx="1152360" cy="1296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3"/>
            </p:cNvCxnSpPr>
            <p:nvPr/>
          </p:nvCxnSpPr>
          <p:spPr>
            <a:xfrm flipH="1" flipV="1" rot="5400000">
              <a:off x="3484440" y="2909880"/>
              <a:ext cx="1152360" cy="891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9" name="_s1031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392200" y="1817640"/>
              <a:ext cx="1152360" cy="3075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14" name="_s1032"/>
            <p:cNvSpPr/>
            <p:nvPr/>
          </p:nvSpPr>
          <p:spPr>
            <a:xfrm>
              <a:off x="3671640" y="47628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39528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257940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476352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694764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29"/>
          <p:cNvSpPr txBox="1"/>
          <p:nvPr/>
        </p:nvSpPr>
        <p:spPr>
          <a:xfrm rot="20364000">
            <a:off x="4716360" y="486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ле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0"/>
          <p:cNvSpPr txBox="1"/>
          <p:nvPr/>
        </p:nvSpPr>
        <p:spPr>
          <a:xfrm rot="20677800">
            <a:off x="2627280" y="4797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31"/>
          <p:cNvSpPr txBox="1"/>
          <p:nvPr/>
        </p:nvSpPr>
        <p:spPr>
          <a:xfrm rot="20751600">
            <a:off x="469800" y="4857840"/>
            <a:ext cx="15163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2411280" y="112536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ительный материал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468360" y="105264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39640" y="4005360"/>
            <a:ext cx="38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нужен для: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68360" y="4797360"/>
            <a:ext cx="160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ост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468360" y="5373720"/>
            <a:ext cx="470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азвития организ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5"/>
          <p:cNvSpPr txBox="1"/>
          <p:nvPr/>
        </p:nvSpPr>
        <p:spPr>
          <a:xfrm>
            <a:off x="468360" y="5805360"/>
            <a:ext cx="8069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повышения сопротивляемости болезн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340000" y="1773360"/>
            <a:ext cx="439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3276720" y="1916280"/>
            <a:ext cx="2590200" cy="2017440"/>
            <a:chOff x="3276720" y="1916280"/>
            <a:chExt cx="2590200" cy="2017440"/>
          </a:xfrm>
        </p:grpSpPr>
        <p:sp>
          <p:nvSpPr>
            <p:cNvPr id="132" name="Puzzle3"/>
            <p:cNvSpPr/>
            <p:nvPr/>
          </p:nvSpPr>
          <p:spPr>
            <a:xfrm>
              <a:off x="4538160" y="1916280"/>
              <a:ext cx="1018080" cy="1072080"/>
            </a:xfrm>
            <a:custGeom>
              <a:avLst/>
              <a:gdLst>
                <a:gd name="textAreaLeft" fmla="*/ 106920 w 1018080"/>
                <a:gd name="textAreaRight" fmla="*/ 903240 w 1018080"/>
                <a:gd name="textAreaTop" fmla="*/ 383040 h 1072080"/>
                <a:gd name="textAreaBottom" fmla="*/ 1004400 h 10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41880" y="2697120"/>
              <a:ext cx="1625040" cy="976320"/>
            </a:xfrm>
            <a:custGeom>
              <a:avLst/>
              <a:gdLst>
                <a:gd name="textAreaLeft" fmla="*/ 405720 w 1625040"/>
                <a:gd name="textAreaRight" fmla="*/ 1217520 w 1625040"/>
                <a:gd name="textAreaTop" fmla="*/ 304200 h 976320"/>
                <a:gd name="textAreaBottom" fmla="*/ 92412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612960" y="2685240"/>
              <a:ext cx="979920" cy="1248480"/>
            </a:xfrm>
            <a:custGeom>
              <a:avLst/>
              <a:gdLst>
                <a:gd name="textAreaLeft" fmla="*/ 93960 w 979920"/>
                <a:gd name="textAreaRight" fmla="*/ 916920 w 979920"/>
                <a:gd name="textAreaTop" fmla="*/ 327240 h 1248480"/>
                <a:gd name="textAreaBottom" fmla="*/ 92340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3276720" y="2240640"/>
              <a:ext cx="1645560" cy="744120"/>
            </a:xfrm>
            <a:custGeom>
              <a:avLst/>
              <a:gdLst>
                <a:gd name="textAreaLeft" fmla="*/ 463320 w 1645560"/>
                <a:gd name="textAreaRight" fmla="*/ 1228680 w 1645560"/>
                <a:gd name="textAreaTop" fmla="*/ 88200 h 744120"/>
                <a:gd name="textAreaBottom" fmla="*/ 673560 h 7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611280" y="105264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 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132000" y="1268280"/>
            <a:ext cx="3762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ливо для клет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Picture 10" descr="anixmasc"/>
          <p:cNvPicPr/>
          <p:nvPr/>
        </p:nvPicPr>
        <p:blipFill>
          <a:blip r:embed="rId1"/>
          <a:stretch/>
        </p:blipFill>
        <p:spPr>
          <a:xfrm>
            <a:off x="3348000" y="220500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1"/>
          <p:cNvSpPr txBox="1"/>
          <p:nvPr/>
        </p:nvSpPr>
        <p:spPr>
          <a:xfrm>
            <a:off x="539640" y="4724280"/>
            <a:ext cx="4133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нужны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539640" y="5589720"/>
            <a:ext cx="6534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ой и умственной работ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627280" y="1844640"/>
            <a:ext cx="316692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6"/>
          <p:cNvSpPr txBox="1"/>
          <p:nvPr/>
        </p:nvSpPr>
        <p:spPr>
          <a:xfrm>
            <a:off x="684360" y="112536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700360" y="1268280"/>
            <a:ext cx="4191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лад еды, топлив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68360" y="4797360"/>
            <a:ext cx="36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нужны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5734080"/>
            <a:ext cx="716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 мозга и нервной систе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Homepage"/>
          <p:cNvSpPr/>
          <p:nvPr/>
        </p:nvSpPr>
        <p:spPr>
          <a:xfrm>
            <a:off x="2627280" y="2133720"/>
            <a:ext cx="3673440" cy="2158920"/>
          </a:xfrm>
          <a:custGeom>
            <a:avLst/>
            <a:gdLst>
              <a:gd name="textAreaLeft" fmla="*/ 169560 w 3673440"/>
              <a:gd name="textAreaRight" fmla="*/ 3539880 w 3673440"/>
              <a:gd name="textAreaTop" fmla="*/ 1216800 h 2158920"/>
              <a:gd name="textAreaBottom" fmla="*/ 1714320 h 2158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172360" y="544500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3794" y="5135"/>
                </a:moveTo>
                <a:lnTo>
                  <a:pt x="17806" y="12142"/>
                </a:lnTo>
                <a:lnTo>
                  <a:pt x="3794" y="1914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5640" y="1268280"/>
            <a:ext cx="7993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бы расти здоровыми, над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авильно питать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ища должна быть не толь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усной, но и …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олез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свой рацион питания надо боль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лючать 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вощей и фрук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одукты питания содержа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белки, жиры и углево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411280" y="620640"/>
            <a:ext cx="63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 предл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еловеку нужно 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ы встать и чтобы с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кувыркаться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Песни петь, дружить, смеять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развив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И при этом не боле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Нужно правильно пит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С самых юных лет уме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PH02810J"/>
          <p:cNvPicPr/>
          <p:nvPr/>
        </p:nvPicPr>
        <p:blipFill>
          <a:blip r:embed="rId1"/>
          <a:stretch/>
        </p:blipFill>
        <p:spPr>
          <a:xfrm>
            <a:off x="7383600" y="5495760"/>
            <a:ext cx="176040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PH02759J"/>
          <p:cNvPicPr/>
          <p:nvPr/>
        </p:nvPicPr>
        <p:blipFill>
          <a:blip r:embed="rId2"/>
          <a:stretch/>
        </p:blipFill>
        <p:spPr>
          <a:xfrm>
            <a:off x="6732720" y="4292640"/>
            <a:ext cx="180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39:22Z</dcterms:created>
  <dc:creator>1</dc:creator>
  <dc:description/>
  <dc:language>en-US</dc:language>
  <cp:lastModifiedBy>Дарёна</cp:lastModifiedBy>
  <dcterms:modified xsi:type="dcterms:W3CDTF">2012-01-12T10:15:35Z</dcterms:modified>
  <cp:revision>16</cp:revision>
  <dc:subject/>
  <dc:title>Слайд 1</dc:title>
</cp:coreProperties>
</file>