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96DD-8008-4925-8E27-77D3DCE805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D7A8-F76C-477C-8858-C33064EFA7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91D5-0F32-4C9D-BDCE-5F278C14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966-9A97-4CE2-BDB7-11F1A21F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929-3BD9-4E1C-BD39-36CF059E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0B1-7417-402E-8F30-05D83A52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25CF-1DBC-44D0-ABAF-D4F6C48F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99E9-F21D-4D99-9CEB-D66F47EC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EA7E-5724-422B-821C-9DBDA8CC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10B7-095F-429B-A2B4-8839601C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858E-7C26-4A8B-B810-8C5FFC49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4A16-C315-4A48-99EC-AFD14D7F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D3D5-678E-4C9F-AAD5-1F1CEA98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805C-8C61-48AB-B273-65A1F760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D2D3-1CB2-4DAB-9822-F2FF5366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0612-9AE6-42CC-A31D-120BB15C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B16D-BF74-41A7-89F1-685933AE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ECB9-3270-4AEB-BA82-A9DD5095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684B-3C87-4846-A274-40714812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C9C12-4A4D-448E-B672-0F7CB857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0455B-C743-4E1B-8EF5-7A4071F5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D7187-A13B-4504-BCFA-3BFF9F84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4AA33-BBA1-4318-BC8E-8BA8A733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8CA19-40D1-479C-BEE6-D15231B4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6EC7-407C-4BF0-9559-2AA4D27E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38F8E-F1BB-4EEB-A224-BFCB27B8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A2703-EC9D-44C9-B971-3CA97150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CF43A-8FA9-4B31-AD32-88D9A00A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53DAA-8564-4AA9-BFD3-D790EC6A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EBB07-20DA-4EDE-B14D-5393951F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A4BB2-6ACE-452E-BC8F-ED699855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5EBC8-B284-47C1-B032-1CF944CB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5D86D-8F75-4302-8B9C-902E6C4F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41E9A-2A5A-4CBD-9531-7A649407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80FE7-57BB-4DC2-B7D2-7A8FCA9A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B0FE-C04B-4B39-A913-4801B09B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76854-A010-4995-A1C5-0EABB6CA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E8475-CEA6-45D7-8EC0-40DA2BF8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9760D-DC9D-4D15-BFFA-ADB3A643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B37A0-4126-4579-A11D-90ED0579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F2A94-9581-4D5E-8C78-C69A140E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95B16-05B1-4045-BF94-70D8ECF9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5D748-9A00-41D9-9D98-76D5A628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E558D-AB04-4F48-AD50-AE492CE6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5052A-0CB2-4C60-9C0D-0A389A50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0D79B-F295-4DDF-8B3B-8DB5E0E4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2968-6D6A-4A27-AABD-52837779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65AFD-EE6F-4254-A488-26E4FE31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F287F-46B6-4FFF-8081-22937E27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819A4-BD0F-4E7F-988F-1C938F69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67D19-1A24-4369-93D9-749D2A93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802CA-42C5-4E52-BAE0-C94CC7EE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B69D4-BE42-4D8C-B549-6E5356AB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7F91F-8AC5-4ADF-A2F8-029246FE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285FE-080E-4BF0-B032-CAA31ADA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3156D-D8C7-484B-BE7B-ADF69DC8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8AB3B-85EB-42E0-8021-ECF4BF8B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2F2C-D7B8-4640-8001-984F4940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16CE9-79F8-4EE4-AC7C-B988E075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760-E3D0-42E5-8BD0-787ADF57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04C-B917-49C7-AE79-0CBD5E7B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A2D-9C67-4C0A-973C-EE3C8C27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151A-288E-4DB5-8FAB-054DF6CED41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CDAB-E832-48CE-9811-EB66718604D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8765-427F-480A-B48A-83CE136A702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0131-AB20-4C51-8919-3449116FB92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2A04-06E2-4312-97CF-EA47CD09FA3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Последовательность выполнения углов. «Лесная полянка». 1-2\5AkDnktJwN8.jpg"/>
          <p:cNvPicPr/>
          <p:nvPr/>
        </p:nvPicPr>
        <p:blipFill>
          <a:blip r:embed="rId2"/>
          <a:stretch/>
        </p:blipFill>
        <p:spPr>
          <a:xfrm>
            <a:off x="-324000" y="2852640"/>
            <a:ext cx="99093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Лесная поля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79995\Desktop\изонить\Последовательность выполнения углов. «Лесная полянка». 1-2\screen18.jpg"/>
          <p:cNvPicPr/>
          <p:nvPr/>
        </p:nvPicPr>
        <p:blipFill>
          <a:blip r:embed="rId1"/>
          <a:stretch/>
        </p:blipFill>
        <p:spPr>
          <a:xfrm>
            <a:off x="684360" y="91764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Лесная полянка». 1-2\Последовательность выполнения углов. «лесная поляна».jpg"/>
          <p:cNvPicPr/>
          <p:nvPr/>
        </p:nvPicPr>
        <p:blipFill>
          <a:blip r:embed="rId1"/>
          <a:stretch/>
        </p:blipFill>
        <p:spPr>
          <a:xfrm>
            <a:off x="2411280" y="973080"/>
            <a:ext cx="396108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15T09:55:31Z</dcterms:modified>
  <cp:revision>32</cp:revision>
  <dc:subject/>
  <dc:title>ТВОРЧЕСКАЯ ДЕЯТЕЛЬНОСТЬ: ЗНАКОМСТВО С ТЕХНИКОЙ ИЗОНИТЬ</dc:title>
</cp:coreProperties>
</file>