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132E-1175-45D6-B610-85B5ACB674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83CE-9428-4731-9C42-36599683B9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959-3A63-47C8-8F3E-B0018617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AEB-5A55-4604-9875-544A2942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E75-0102-43CC-9B05-CCB04093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130-DCC1-46AA-A04B-27251CC7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B35B-A04E-40E0-9BAE-D1472CE7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5FB7-5C2E-400F-98DD-F01F064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3CA1-DD39-41FC-A4EB-B0548015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50E9-110E-4334-8BC7-5B30C5CB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93A0-ADC2-44E8-A153-CDB8DB26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DAA4-FFCD-4018-BB84-DE0FD4F7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54A5-2A17-4B44-909C-CC4EC5C3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E6C-B969-49BF-8450-7750B7EC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DC8F-8606-4570-AB67-EEC2C03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3830-5EDA-4510-92CB-358AD506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4FC1-DEC7-4518-8D8E-A5BC666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955A-877F-4740-BD89-7DB17140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7E5A-6391-4E5A-B196-90AB0865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A9F3-AE8E-48DF-8E20-89C46A31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5BB2-A407-4081-B6EF-80ACBEFE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4A9E-252A-4D8E-A1F9-BF4685C6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B1C1-90D7-4920-B49B-F33B1647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9A0C-716D-4C54-958A-42C6A7B1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E65-2462-4791-BA66-AB52B532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ADC0-5E87-4E62-B5AD-CC678F75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87F2-69E2-4D8C-93FD-B987CD0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E5D3-1340-46B2-BEC9-C8F3755E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EFD4-0E15-44FC-BCC8-65F2BF0A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500C-900B-47AD-B216-D082617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20C9-2E6D-47C2-98DF-7450AB08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DA49-A309-4A23-8562-A2792B0E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247C-EE73-43D8-B4EE-3E3FCD97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7635-0C22-4AC8-A546-780BA1D8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0FDA0-F2E0-4D39-ADD0-0F5053E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1B8-861B-4866-8D3E-6DE4D40C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E8919-8FB4-496A-8E4E-50BD82D2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4E808-8FDE-49BC-A748-E6FE7B5A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C7DD-5E45-45DE-8C8C-87F402FC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30C2-BF36-4E26-8A4C-98C1361B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7D43-E20D-49AA-AAED-43A6962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244F-6808-4F2C-B8D5-269E96D3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A9FFC-3AB9-4251-8695-F154A0DF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1300-FA72-4D26-A88B-48C97F02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DC658-A05D-4011-9FE1-0AD0EFC6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B1209-E99E-46B8-BB57-C0D0729B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588-BFA9-4117-B455-535AB003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9D80-D59A-4494-BF44-DA6DEC12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DC106-0D9C-40A2-A8B7-4EB67779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04F68-46D0-46F6-A869-C69C30E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097B8-763A-4C46-BC96-4DA7FE1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EFCE-B613-493E-A32F-C8B0277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C5436-057F-42C7-AEAE-78F22F25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BD05D-EB59-42AE-8467-C20EE78B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DF76-FD60-4CE9-BEE2-9F750B10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7B60-3DAD-43A0-9B57-BE407ECD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FD933-72E4-418D-B0D1-8420FFE0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218-1E9B-446C-8570-8198F570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A54C-A87F-41DD-84AF-3C06783E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7F2-854B-43E7-9C3F-7313A377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370-B745-4514-9DF9-519F940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869-3C46-41B0-ABA3-C71DFD39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D923-93F6-4D76-AF36-F6C4337270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F79E-AA34-49ED-B1EF-D68BD743A7B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D147-F86D-4DB2-8BB9-F8554EB8C85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348D-905C-40B4-AD04-70DE201DA9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FEC9-A28C-48B0-B762-1DAE7D3C162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 1-2\Последовательность выполнения углов. «лесная поляна».jpg"/>
          <p:cNvPicPr/>
          <p:nvPr/>
        </p:nvPicPr>
        <p:blipFill>
          <a:blip r:embed="rId1"/>
          <a:stretch/>
        </p:blipFill>
        <p:spPr>
          <a:xfrm>
            <a:off x="2411280" y="973080"/>
            <a:ext cx="3961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15T09:55:31Z</dcterms:modified>
  <cp:revision>32</cp:revision>
  <dc:subject/>
  <dc:title>ТВОРЧЕСКАЯ ДЕЯТЕЛЬНОСТЬ: ЗНАКОМСТВО С ТЕХНИКОЙ ИЗОНИТЬ</dc:title>
</cp:coreProperties>
</file>