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D4E4-46FC-4CC9-BF3B-4411BE748A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9811-49B2-45BB-83D7-ECDC018A37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630-9D61-4FF5-83B8-717F61B2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D82E-1883-4150-BAB7-E1803070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8CC-EB49-4ADC-8EFF-96438CF6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EF2-3979-47C4-81D2-303140C7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7252-ACB3-420D-81EF-950CF9D5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EE75-3C23-4B40-A642-D56A22FA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C7E1-E15A-46AA-943E-CDC7F63A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76AB-5008-4221-B1A0-FA234BF5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DD45-7D1A-4927-8F87-A0AAD637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102B-4C7E-4BFC-8D5C-A7D75231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C030-6128-41E0-ABE5-4CC97A53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F048-5A30-434E-AA32-3472CDC7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CDB0-EE8A-4B9B-A05B-A4C6AE27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2E59-96BB-4C17-91C4-02E061A2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4D57-2E78-4DC0-AA15-3A71929D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B387-5A71-40B8-9621-2577C63B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6275-6178-4A32-919F-85D608C1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8BF14-8773-4B36-A719-D9971E26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7FC8C-3AD7-4B85-9AD9-FBCB72B0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A0B88-B248-4B8D-A5CA-83F2656D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B6423-FB34-4953-A4A9-67261CDA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14F7C-A7F2-4402-98E4-BB968B88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2EBA-5809-48FA-8F18-4FF586A3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06285-E3BE-4635-A4FB-77DDE8AE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E1B2C-2C37-426D-83F9-24353475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7A509-5202-4B7C-8719-C98BDA5D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E5793-496D-4047-B799-5A233EF3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81818-943E-4DF9-BA38-68319792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5FE3E-32B9-460C-85E5-5A43C8E3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70F4E-12BF-446B-BCFE-03AC3B73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5AE39-49AB-4EB3-834B-5BDA0C85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59A7C-C4CD-40BA-A3C8-C29B9F08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A3566-3F1D-4062-9E07-DD092177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4B6-56FD-44EC-B537-134E8D1D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0379B-BAE2-4D39-B9DD-B923E7FB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558B2-E824-48B4-8D2E-0E35C7FB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4E68F-957F-490C-8672-ED04585D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560C4-5457-46A1-9A15-837627B7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8C610-B6A5-4F88-A2BF-F997D53F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9B89E-973E-4699-A7FA-E8624D21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FA313-664C-4B16-8106-46FC933C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B183C-56A0-45D3-92C6-8A8285C2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5091C-425E-43B5-8B14-7B9D0DA0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F2A73-3F07-4670-8D2D-8EAF78B0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F5D-2136-44D2-9FE9-B6777D71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D6D5C-EF11-4D6F-958A-BA319322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9645A-BA37-4AC2-B182-3F52D03C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5A27E-929A-41FA-B0A7-26E3A819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17332-4E78-48BF-AEFA-15CADE7E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B2CF9-7DA5-469E-81AB-626F463F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F2DC8-1E10-4D74-8617-D98F40C1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47A24-30D1-4975-B9BA-45DB2B32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5B6B2-55F8-4A83-AB17-F26EEC3E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D4A52-F56F-4522-9EA2-6E8321C6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5F807-C8FD-44E2-B9B5-8EFEF385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E59D-A2B4-4D80-B5E1-2F765D11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EE394-63A9-4AA8-A768-741B04E0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F33-D1D5-4F36-AD0E-9AC5D33A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07A-CE86-4343-99F6-4B4173B2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F9A-A06C-413C-A6E7-5B2174F0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EA63-2625-4A78-A5E0-4A1EEA833AF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E950-D331-498C-91CD-3E7FFF55A47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74CB-BEE3-404F-88E2-A45211B9767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826E-47B4-423D-A976-2F8BE55A87C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8EA6-0155-4B5F-95CA-C5ECE4957F7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Последовательность выполнения углов. «Лесная полянка». 1-2\5AkDnktJwN8.jpg"/>
          <p:cNvPicPr/>
          <p:nvPr/>
        </p:nvPicPr>
        <p:blipFill>
          <a:blip r:embed="rId2"/>
          <a:stretch/>
        </p:blipFill>
        <p:spPr>
          <a:xfrm>
            <a:off x="-324000" y="2852640"/>
            <a:ext cx="9909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Лес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79995\Desktop\изонить\Последовательность выполнения углов. «Лесная полянка». 1-2\screen18.jpg"/>
          <p:cNvPicPr/>
          <p:nvPr/>
        </p:nvPicPr>
        <p:blipFill>
          <a:blip r:embed="rId1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Лесная полянка». 1-2\Последовательность выполнения углов. «лесная поляна».jpg"/>
          <p:cNvPicPr/>
          <p:nvPr/>
        </p:nvPicPr>
        <p:blipFill>
          <a:blip r:embed="rId1"/>
          <a:stretch/>
        </p:blipFill>
        <p:spPr>
          <a:xfrm>
            <a:off x="2411280" y="973080"/>
            <a:ext cx="396108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15T09:55:31Z</dcterms:modified>
  <cp:revision>32</cp:revision>
  <dc:subject/>
  <dc:title>ТВОРЧЕСКАЯ ДЕЯТЕЛЬНОСТЬ: ЗНАКОМСТВО С ТЕХНИКОЙ ИЗОНИТЬ</dc:title>
</cp:coreProperties>
</file>