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937F-AFE2-48FB-AC4A-262FCB0237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6B38-4389-4524-8BBF-D2E13135AC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8E9-E552-4754-BC1D-071388AC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9A3-D428-4EDE-927B-DB3AA5E4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913-1A7F-4577-9EA3-4F774F21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68C-2B89-4C65-BA6E-76A91A69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905C-269D-4884-9767-3826A8BC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C9B7-F194-4F8F-9526-856D9334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2D53-E7A9-4213-842C-47FA4142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3485-2E5C-400D-AAC6-877CFB59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64C4-C8E5-4FE5-B22C-030C40F3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35A4-03AA-4A6C-8D55-5E89169D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1800-0707-40F2-9D19-73F62ED1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A67-8512-4A1C-ADE7-9E65B05D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ADF9-2E9A-42BE-B75A-CC75FF54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81D1-EE3E-4DAC-8B81-E02B4384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1C82-66B1-44C9-A79C-96E7B030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8075-20F2-4A6A-A424-22421BF8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B2B9-6AE0-443A-BD9C-212573C8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482F-4BDD-4B83-B99A-A2203D5E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4CB5D-17C1-4A41-8822-91833937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4C087-B9BF-4083-A86D-4A387820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59B4F-DD9D-4EE2-B29D-0041460C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40256-671E-4A8E-AB24-63668F6B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C3F-A59B-497F-A777-86F40110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E38C1-4BD7-4CC9-B442-ACC03639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238B-CF5C-48F0-B7F7-33990C72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3135-779D-4CD2-8B97-786876EF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A14B6-DD69-4A38-A614-0194F6ED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C9F33-8B39-4D93-9885-54436DF6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0A002-0457-4734-A494-5CC9F719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90A70-3608-403F-AC32-6F242302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6C71A-1658-4BC4-AC13-0EB11B86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59F45-C270-4773-8D7E-2EFE4E81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84ED4-DF3D-45CD-9D16-17B72679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E1A-61D6-4ECE-ADF7-24576FB7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F39E4-5EED-4334-A617-EB41512F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E46F6-8B31-4DB4-B7F9-12E1BE82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01EA8-100D-41FF-9EBD-BD5AF2CE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D21CA-84D1-4C7D-8C69-3C5DCAEF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2CE15-AE5B-4DA8-B100-CF2BED55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3325A-0500-49C0-8CAC-6E91E528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4AB33-5B00-448C-ABB9-5C0072BA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F9F7C-5C48-461F-9A2D-E2B2F97D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A5175-9D8A-41A6-9007-87ADF478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1F22E-3C1D-481F-89E3-4B345014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179B-C014-4A49-8029-CEBC0B61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CB6E8-50FC-427C-BBC1-1C25F4A9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A385F-6A26-4AB3-B3B9-4C9EF151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3F3DE-AD5A-45F4-9D49-A331CFC9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80E98-67DF-40BA-AD52-7EA513DC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ECAFE-C1A9-4651-8E47-A703A98C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02294-BBB7-4D11-B279-A60BB0A5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24798-6EB1-4125-AB9A-1F2FD6A2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9BDE6-662E-4C6A-B111-19997332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C5BA5-1826-44C9-B8BF-480A1456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4CC1D-5931-4C6A-AEFC-6E26989C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80D-8D81-471E-9416-B6EC9EF2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07331-9CA8-4536-9CA1-DD4E961D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5EC-F379-43FC-AD7E-77C878E6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BB4-D9A1-42C3-8CF9-F87489F1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3D3-098E-42E0-B677-B4941F85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7F53-597E-4FBD-BCD6-CCE86770EC9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0E11-6494-4E77-8576-477B178CF5E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E8DF-3AB4-4C79-BFC0-A503BC41F2D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622D-450C-4D60-9CF0-226BFF99B08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EE0F-F053-4762-80F4-C36D5198F56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3-4\Последовательность выполнения углов. «лесная поляна»2.jpg"/>
          <p:cNvPicPr/>
          <p:nvPr/>
        </p:nvPicPr>
        <p:blipFill>
          <a:blip r:embed="rId1"/>
          <a:stretch/>
        </p:blipFill>
        <p:spPr>
          <a:xfrm>
            <a:off x="2340000" y="1114560"/>
            <a:ext cx="418140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1T16:34:14Z</dcterms:modified>
  <cp:revision>33</cp:revision>
  <dc:subject/>
  <dc:title>ТВОРЧЕСКАЯ ДЕЯТЕЛЬНОСТЬ: ЗНАКОМСТВО С ТЕХНИКОЙ ИЗОНИТЬ</dc:title>
</cp:coreProperties>
</file>