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24D1-06BD-4B12-B0BE-70D0F5629B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139C-C48A-450C-8C80-2DFCDAB4D6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74F-D7DA-49E4-A862-C0C33EE0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9AB-481A-45C3-A392-5AD0CA4E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8A2-0AE0-43DB-B8FD-4A4489CA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F3F-0FC5-469F-9C24-53B197AA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1C2A-A12B-4EAD-B70A-63418781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2266-29DC-4C36-B790-F27E8F25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470C-4E05-481F-8C7B-A04110B8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42DF-80F5-486C-9158-3DAE0D3E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9873-DCEB-44EB-B8E1-CE453B91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712C-20DB-4B55-BBA0-4861053A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C766-513D-4846-9CE4-CFD6EEC9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485-CB3E-440D-97F7-37DDE90B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ED8B-55C7-45C1-B3AF-C456BD3E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A781-F5E6-4B4A-991D-9979FAD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B0F3-6D7D-43A0-B7C6-AFFEFEAA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2538-660C-4EAF-B00E-5C8474D3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D8D3-95B7-43D2-8742-9C531BEA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3984-0BBB-49DE-A1DE-BCDDF3F5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3D31-373F-4837-8CE1-DFD4E910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5C9E-055E-4E9E-98FF-E7315C60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6AB4-DBB6-43C7-B620-A085C4CB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2C0B-B9EF-4863-8F07-3CF75F8A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C93-1DF4-4C4B-88C0-9E088857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BEE7F-3F22-4A23-BF31-C49AD1E8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18AE-C282-4CC8-ADD7-8C4D7681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AB86-52A4-4699-9A46-36D6A796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BAC82-D842-41D8-A0BC-096EFC9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E381-F124-4701-B429-5B41470F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5B991-4846-40F9-9EB8-366C4AA4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E530-7F24-4EBF-8558-6C8E70EF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B247A-02D8-41B0-8622-25870ECF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100F-A064-4D87-93D2-5551BC98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CE60-4EF1-4067-893C-1C9246EF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0BD-7673-4D54-AD1E-7623A553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F4357-505B-4931-A9C4-96BCCA23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76016-DDF4-4BC2-B60B-8CA9D8EC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EFF34-D654-4BC7-97BE-DCA4FC89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11BF6-7537-4134-A638-68C21B21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8EE1-2DF2-49D7-B843-F03ECB21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FA59-F0DE-4AE5-9F91-C552BA71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13244-B2EA-49DA-BD3C-94F6F537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030F5-C2C5-4A18-9CBE-7066DD53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C9AD-43D9-449C-84E9-D068DA81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D6955-3346-45E4-9811-393E1FDB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A65-C105-43F1-8633-51DC7218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00D8A-85EF-48F0-8DB0-899B6509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9C5A3-DBB9-4494-95C8-788A452C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A3ED-3764-46B5-AF2C-2540AAA9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AD003-CCE0-430D-B2D9-28A477D1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37B79-977C-448E-BDC9-08D743B9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AE19A-1F4E-4E5A-BD1C-A851E1E5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A0799-3E73-4545-847B-DF8F94D1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9ACB4-5EFA-4D39-B4DB-14F4DDC1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0D196-E7FB-4351-BC68-E8C7C931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BD528-9F20-4F91-A349-5323EFFA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0F4-9572-4EAB-B5EB-85F70BF5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1426A-1049-4ABD-A6A0-20FB819B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619-CC8F-4744-9CD6-EABDB5A7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644-7F9B-46D9-A75C-86D6373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6AD-36E4-4808-9961-41E82DE0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2A25-6962-43C1-9401-C190AD644CA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6DD6-90C0-473D-A233-FFCD0B362BC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566F-1F72-4E54-A8F7-C548403CE30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6470-C0FA-413D-960F-0B86762FCB1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7A55-0D9B-4CBF-BE53-D7515C3EFC5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3-4\Последовательность выполнения углов. «лесная поляна»2.jpg"/>
          <p:cNvPicPr/>
          <p:nvPr/>
        </p:nvPicPr>
        <p:blipFill>
          <a:blip r:embed="rId1"/>
          <a:stretch/>
        </p:blipFill>
        <p:spPr>
          <a:xfrm>
            <a:off x="2340000" y="1114560"/>
            <a:ext cx="41814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1T16:34:14Z</dcterms:modified>
  <cp:revision>33</cp:revision>
  <dc:subject/>
  <dc:title>ТВОРЧЕСКАЯ ДЕЯТЕЛЬНОСТЬ: ЗНАКОМСТВО С ТЕХНИКОЙ ИЗОНИТЬ</dc:title>
</cp:coreProperties>
</file>