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png" ContentType="image/png"/>
  <Override PartName="/ppt/media/image16.jpeg" ContentType="image/jpeg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A712-EAD9-4ECF-ABBE-196FCDDC3A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т они – обитатели почвы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FE78-C90B-41E0-AD5D-4AC90363F9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6E48-66DF-451D-BD76-DF6A0113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6240-08A7-4FD6-9623-5374ED6C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6D33-03B2-4DA9-8F40-81B10CCAE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E419-6EEC-4456-A2B8-5875DC22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FC08-E306-4000-8401-E82EC9D1A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BBE6-7B7D-4F0D-A037-B90D970F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7C1C-F3EB-40F8-9263-475207E4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5A67-DC2B-46C4-9AB3-3D3E2A78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E2E7-7B06-4A3D-937C-D7952E1C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90A8-B52F-4979-8CC6-66021334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011B-0687-4F75-BD1E-50DEA7B6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5C9D-1377-4FFE-A26C-696A7DF6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ADF3-749C-4EF3-A1DE-E34F970D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30CF-2C9E-4F23-B1A1-43FDD7E9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F1D4-3A26-4C37-8AE0-B4546CEC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4BB5-E8CF-4304-9B72-3101B30E7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E7FD-154D-477D-BAB4-29DD9D52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0F4B-B9EA-445F-A4FD-69444E05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856E-CDC1-49A7-A8DA-F31A0605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3122-D1F4-4890-97A0-155A1A28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4D9C-09AE-44DD-9751-8A51C660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CCC3-FE3A-48A5-A355-B6F0F800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FC1E-5956-4294-ADEA-9400FCBB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C15E-1B7C-4682-A1F0-737C5F0F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0262-84B0-4E21-AD3E-7DD3A352C68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4279-FE71-4F4D-84CE-E49AFA72330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1840" y="765000"/>
            <a:ext cx="7921800" cy="25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>
                <a:solidFill>
                  <a:srgbClr val="330033"/>
                </a:solidFill>
                <a:latin typeface="Times New Roman"/>
              </a:rPr>
              <a:t>Разнообразные живые обитатели почв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C:\Users\79995\Desktop\pic123.jpg"/>
          <p:cNvPicPr/>
          <p:nvPr/>
        </p:nvPicPr>
        <p:blipFill>
          <a:blip r:embed="rId1"/>
          <a:stretch/>
        </p:blipFill>
        <p:spPr>
          <a:xfrm>
            <a:off x="971640" y="2924280"/>
            <a:ext cx="78786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DejaVu Serif"/>
              </a:rPr>
              <a:t>Многоклеточные жители почвы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836640"/>
            <a:ext cx="91375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ejaVu Serif"/>
              </a:rPr>
              <a:t>Обитают  в почве и более крупные животные. Это прежде всего различные клещи, слизни, некоторые насекомые. Они не имеют специальных приспособлений для рытья проходов в почве, поэтому живут неглубо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DejaVu Serif"/>
              </a:rPr>
              <a:t>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3" descr="17.gif"/>
          <p:cNvPicPr/>
          <p:nvPr/>
        </p:nvPicPr>
        <p:blipFill>
          <a:blip r:embed="rId1"/>
          <a:stretch/>
        </p:blipFill>
        <p:spPr>
          <a:xfrm>
            <a:off x="2556000" y="2637000"/>
            <a:ext cx="3930480" cy="3930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DejaVu Serif"/>
                <a:ea typeface="DejaVu Serif"/>
              </a:rPr>
              <a:t>Узнали, кто это такие?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2" name="Содержимое 3" descr="cherv-300x268.jpg"/>
          <p:cNvPicPr/>
          <p:nvPr/>
        </p:nvPicPr>
        <p:blipFill>
          <a:blip r:embed="rId1"/>
          <a:stretch/>
        </p:blipFill>
        <p:spPr>
          <a:xfrm>
            <a:off x="250920" y="1052640"/>
            <a:ext cx="4111560" cy="367164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4" descr="Нематода под микроскопом"/>
          <p:cNvPicPr/>
          <p:nvPr/>
        </p:nvPicPr>
        <p:blipFill>
          <a:blip r:embed="rId2"/>
          <a:stretch/>
        </p:blipFill>
        <p:spPr>
          <a:xfrm>
            <a:off x="4859280" y="981000"/>
            <a:ext cx="4284720" cy="386388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5" descr="1016.jpg"/>
          <p:cNvPicPr/>
          <p:nvPr/>
        </p:nvPicPr>
        <p:blipFill>
          <a:blip r:embed="rId3"/>
          <a:stretch/>
        </p:blipFill>
        <p:spPr>
          <a:xfrm>
            <a:off x="2987640" y="4211640"/>
            <a:ext cx="3816360" cy="264636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6"/>
          <p:cNvSpPr/>
          <p:nvPr/>
        </p:nvSpPr>
        <p:spPr>
          <a:xfrm>
            <a:off x="285840" y="5000760"/>
            <a:ext cx="235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DejaVu Serif"/>
                <a:ea typeface="DejaVu Serif"/>
              </a:rPr>
              <a:t>Вот он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DejaVu Serif"/>
                <a:ea typeface="DejaVu Serif"/>
              </a:rPr>
              <a:t>обитат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DejaVu Serif"/>
                <a:ea typeface="DejaVu Serif"/>
              </a:rPr>
              <a:t>почв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  <p:sndAc>
      <p:stSnd>
        <p:snd r:embed="rId4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DejaVu Serif"/>
              </a:rPr>
              <a:t>А теперь – о самых крупных…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980640"/>
            <a:ext cx="9144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erif"/>
              </a:rPr>
              <a:t>Самые крупные из постоянных обитателей почвы – кроты, землеройки и слепыши. Всю свою жизнь они проводят в почве, в полной темноте, поэтому имеют неразвитые гла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erif"/>
              </a:rPr>
              <a:t>Все у них приспособлено для жизни под землей: удлиненное тело, густой и короткий мех, сильные копательные передние ноги у крота и мощные резцы у слепыша. С их помощью они создают сложные системы ходов, ловушки, кладов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3" descr="1.jpg"/>
          <p:cNvPicPr/>
          <p:nvPr/>
        </p:nvPicPr>
        <p:blipFill>
          <a:blip r:embed="rId1"/>
          <a:stretch/>
        </p:blipFill>
        <p:spPr>
          <a:xfrm>
            <a:off x="179280" y="3860640"/>
            <a:ext cx="3073680" cy="23050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4" descr="1225881754_2.jpg"/>
          <p:cNvPicPr/>
          <p:nvPr/>
        </p:nvPicPr>
        <p:blipFill>
          <a:blip r:embed="rId2"/>
          <a:stretch/>
        </p:blipFill>
        <p:spPr>
          <a:xfrm>
            <a:off x="6443640" y="3500280"/>
            <a:ext cx="2500200" cy="228600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5" descr="0019-018-ZHivotnye-zemleroi.jpg"/>
          <p:cNvPicPr/>
          <p:nvPr/>
        </p:nvPicPr>
        <p:blipFill>
          <a:blip r:embed="rId3"/>
          <a:stretch/>
        </p:blipFill>
        <p:spPr>
          <a:xfrm>
            <a:off x="2987640" y="4149720"/>
            <a:ext cx="3529080" cy="223668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4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0" y="0"/>
            <a:ext cx="532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ва – это верхний плодородный слой зем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4788000" y="0"/>
            <a:ext cx="46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ородие – главное свойство поч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почва.jpg"/>
          <p:cNvPicPr/>
          <p:nvPr/>
        </p:nvPicPr>
        <p:blipFill>
          <a:blip r:embed="rId1"/>
          <a:stretch/>
        </p:blipFill>
        <p:spPr>
          <a:xfrm>
            <a:off x="1504800" y="1749600"/>
            <a:ext cx="5846760" cy="5052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820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ва как среда обитания представляет собой сложную систему, состоящую из твердых частиц, окруженных воздухом и водо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пронизана полостями, заполненными смесью газов и водными растворами, в ней складываются разнообразные условия, благоприятные для жизни множества организм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533520" y="304920"/>
            <a:ext cx="8458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чвенной среды обитания характерны следующие фактор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солнечного свет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вод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начительные перепады  температур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ое содержание кислород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движение в твёрдой сред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C:\Users\79995\Desktop\picture_017.jpg"/>
          <p:cNvPicPr/>
          <p:nvPr/>
        </p:nvPicPr>
        <p:blipFill>
          <a:blip r:embed="rId1"/>
          <a:stretch/>
        </p:blipFill>
        <p:spPr>
          <a:xfrm>
            <a:off x="2282760" y="4184640"/>
            <a:ext cx="686124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Diagram 12"/>
          <p:cNvGrpSpPr/>
          <p:nvPr/>
        </p:nvGrpSpPr>
        <p:grpSpPr>
          <a:xfrm>
            <a:off x="2492280" y="1055880"/>
            <a:ext cx="5131800" cy="5443920"/>
            <a:chOff x="2492280" y="1055880"/>
            <a:chExt cx="5131800" cy="5443920"/>
          </a:xfrm>
        </p:grpSpPr>
        <p:sp>
          <p:nvSpPr>
            <p:cNvPr id="114" name="_s1028"/>
            <p:cNvSpPr/>
            <p:nvPr/>
          </p:nvSpPr>
          <p:spPr>
            <a:xfrm flipH="1" flipV="1">
              <a:off x="4034160" y="2998440"/>
              <a:ext cx="516240" cy="44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029"/>
            <p:cNvSpPr/>
            <p:nvPr/>
          </p:nvSpPr>
          <p:spPr>
            <a:xfrm>
              <a:off x="2872080" y="1851480"/>
              <a:ext cx="1304640" cy="1410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Bell MT"/>
                </a:rPr>
                <a:t>ВОД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30"/>
            <p:cNvSpPr/>
            <p:nvPr/>
          </p:nvSpPr>
          <p:spPr>
            <a:xfrm flipH="1">
              <a:off x="3781800" y="4037400"/>
              <a:ext cx="64368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31"/>
            <p:cNvSpPr/>
            <p:nvPr/>
          </p:nvSpPr>
          <p:spPr>
            <a:xfrm>
              <a:off x="2492280" y="3648240"/>
              <a:ext cx="1305000" cy="1410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Bell MT"/>
                </a:rPr>
                <a:t>ВОЗДУХ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2"/>
            <p:cNvSpPr/>
            <p:nvPr/>
          </p:nvSpPr>
          <p:spPr>
            <a:xfrm flipH="1">
              <a:off x="4489920" y="4513320"/>
              <a:ext cx="285480" cy="64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33"/>
            <p:cNvSpPr/>
            <p:nvPr/>
          </p:nvSpPr>
          <p:spPr>
            <a:xfrm>
              <a:off x="3555000" y="5088960"/>
              <a:ext cx="1304640" cy="1410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Bell MT"/>
                </a:rPr>
                <a:t>ПЕСОК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34"/>
            <p:cNvSpPr/>
            <p:nvPr/>
          </p:nvSpPr>
          <p:spPr>
            <a:xfrm>
              <a:off x="5339520" y="4513320"/>
              <a:ext cx="285120" cy="64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35"/>
            <p:cNvSpPr/>
            <p:nvPr/>
          </p:nvSpPr>
          <p:spPr>
            <a:xfrm>
              <a:off x="5259240" y="5088960"/>
              <a:ext cx="1304640" cy="1410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Bell MT"/>
                </a:rPr>
                <a:t>ГЛИН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036"/>
            <p:cNvSpPr/>
            <p:nvPr/>
          </p:nvSpPr>
          <p:spPr>
            <a:xfrm>
              <a:off x="5691240" y="4037400"/>
              <a:ext cx="64188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37"/>
            <p:cNvSpPr/>
            <p:nvPr/>
          </p:nvSpPr>
          <p:spPr>
            <a:xfrm>
              <a:off x="6319440" y="3648240"/>
              <a:ext cx="1304640" cy="1410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Bell MT"/>
                </a:rPr>
                <a:t>МИКРОБ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38"/>
            <p:cNvSpPr/>
            <p:nvPr/>
          </p:nvSpPr>
          <p:spPr>
            <a:xfrm flipV="1">
              <a:off x="5565960" y="2998440"/>
              <a:ext cx="514440" cy="44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39"/>
            <p:cNvSpPr/>
            <p:nvPr/>
          </p:nvSpPr>
          <p:spPr>
            <a:xfrm>
              <a:off x="5939640" y="1853640"/>
              <a:ext cx="1305000" cy="1411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Bell MT"/>
                </a:rPr>
                <a:t>СОЛ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40"/>
            <p:cNvSpPr/>
            <p:nvPr/>
          </p:nvSpPr>
          <p:spPr>
            <a:xfrm flipV="1">
              <a:off x="5057640" y="2465280"/>
              <a:ext cx="0" cy="71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41"/>
            <p:cNvSpPr/>
            <p:nvPr/>
          </p:nvSpPr>
          <p:spPr>
            <a:xfrm>
              <a:off x="4406040" y="1055880"/>
              <a:ext cx="1304640" cy="1410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Bell MT"/>
                </a:rPr>
                <a:t>ПЕРЕГНО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42"/>
            <p:cNvSpPr/>
            <p:nvPr/>
          </p:nvSpPr>
          <p:spPr>
            <a:xfrm>
              <a:off x="4406040" y="3178440"/>
              <a:ext cx="1304640" cy="141084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0066"/>
                  </a:solidFill>
                  <a:latin typeface="Bell MT"/>
                </a:rPr>
                <a:t>ПОЧВ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Rectangle 20"/>
          <p:cNvSpPr/>
          <p:nvPr/>
        </p:nvSpPr>
        <p:spPr>
          <a:xfrm>
            <a:off x="5254560" y="224964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Прямоугольник 4" descr=""/>
          <p:cNvPicPr/>
          <p:nvPr/>
        </p:nvPicPr>
        <p:blipFill>
          <a:blip r:embed="rId2"/>
          <a:stretch/>
        </p:blipFill>
        <p:spPr>
          <a:xfrm>
            <a:off x="1182600" y="36360"/>
            <a:ext cx="60231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ff99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9"/>
          <p:cNvSpPr txBox="1"/>
          <p:nvPr/>
        </p:nvSpPr>
        <p:spPr>
          <a:xfrm>
            <a:off x="1042920" y="0"/>
            <a:ext cx="74898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то участвует в образовании почвы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2050920" y="1700280"/>
            <a:ext cx="2303640" cy="1368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с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0" y="2852640"/>
            <a:ext cx="2735280" cy="1657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Животны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черв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личинки и т.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5"/>
          <p:cNvSpPr/>
          <p:nvPr/>
        </p:nvSpPr>
        <p:spPr>
          <a:xfrm>
            <a:off x="4500720" y="1700280"/>
            <a:ext cx="2376360" cy="1439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Лишай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>
            <a:off x="6624720" y="2852640"/>
            <a:ext cx="2519280" cy="151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икроорганиз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8"/>
          <p:cNvSpPr/>
          <p:nvPr/>
        </p:nvSpPr>
        <p:spPr>
          <a:xfrm flipH="1">
            <a:off x="2771280" y="1341360"/>
            <a:ext cx="28764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9"/>
          <p:cNvSpPr/>
          <p:nvPr/>
        </p:nvSpPr>
        <p:spPr>
          <a:xfrm>
            <a:off x="5508720" y="1413000"/>
            <a:ext cx="35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2" descr="EXPO6026"/>
          <p:cNvPicPr/>
          <p:nvPr/>
        </p:nvPicPr>
        <p:blipFill>
          <a:blip r:embed="rId1"/>
          <a:stretch/>
        </p:blipFill>
        <p:spPr>
          <a:xfrm>
            <a:off x="2987640" y="3141720"/>
            <a:ext cx="3097080" cy="3024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3" descr="EXPO4649"/>
          <p:cNvPicPr/>
          <p:nvPr/>
        </p:nvPicPr>
        <p:blipFill>
          <a:blip r:embed="rId2"/>
          <a:stretch/>
        </p:blipFill>
        <p:spPr>
          <a:xfrm>
            <a:off x="250920" y="4508640"/>
            <a:ext cx="2520720" cy="2111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5" descr="EXPO4698"/>
          <p:cNvPicPr/>
          <p:nvPr/>
        </p:nvPicPr>
        <p:blipFill>
          <a:blip r:embed="rId3"/>
          <a:stretch/>
        </p:blipFill>
        <p:spPr>
          <a:xfrm>
            <a:off x="6300720" y="4437000"/>
            <a:ext cx="2687760" cy="2160720"/>
          </a:xfrm>
          <a:prstGeom prst="rect">
            <a:avLst/>
          </a:prstGeom>
          <a:ln w="0">
            <a:noFill/>
          </a:ln>
        </p:spPr>
      </p:pic>
      <p:sp>
        <p:nvSpPr>
          <p:cNvPr id="141" name="Line 26"/>
          <p:cNvSpPr/>
          <p:nvPr/>
        </p:nvSpPr>
        <p:spPr>
          <a:xfrm flipH="1">
            <a:off x="1042560" y="1341360"/>
            <a:ext cx="57636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7"/>
          <p:cNvSpPr/>
          <p:nvPr/>
        </p:nvSpPr>
        <p:spPr>
          <a:xfrm>
            <a:off x="7164360" y="1413000"/>
            <a:ext cx="792360" cy="165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e1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ff"/>
                </a:solidFill>
                <a:latin typeface="Bodoni MT"/>
              </a:rPr>
              <a:t>Круговорот веществ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44" name="Diagram 9"/>
          <p:cNvGrpSpPr/>
          <p:nvPr/>
        </p:nvGrpSpPr>
        <p:grpSpPr>
          <a:xfrm>
            <a:off x="2221920" y="1594800"/>
            <a:ext cx="4703760" cy="4843080"/>
            <a:chOff x="2221920" y="1594800"/>
            <a:chExt cx="4703760" cy="4843080"/>
          </a:xfrm>
        </p:grpSpPr>
        <p:sp>
          <p:nvSpPr>
            <p:cNvPr id="145" name="_s2052"/>
            <p:cNvSpPr/>
            <p:nvPr/>
          </p:nvSpPr>
          <p:spPr>
            <a:xfrm>
              <a:off x="3357000" y="1594800"/>
              <a:ext cx="2433600" cy="2738160"/>
            </a:xfrm>
            <a:custGeom>
              <a:avLst/>
              <a:gdLst>
                <a:gd name="textAreaLeft" fmla="*/ 0 w 2433600"/>
                <a:gd name="textAreaRight" fmla="*/ 2433960 w 2433600"/>
                <a:gd name="textAreaTop" fmla="*/ 0 h 2738160"/>
                <a:gd name="textAreaBottom" fmla="*/ 2738520 h 273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2053"/>
            <p:cNvSpPr/>
            <p:nvPr/>
          </p:nvSpPr>
          <p:spPr>
            <a:xfrm rot="4320000">
              <a:off x="3976200" y="2377080"/>
              <a:ext cx="2738160" cy="2433600"/>
            </a:xfrm>
            <a:custGeom>
              <a:avLst/>
              <a:gdLst>
                <a:gd name="textAreaLeft" fmla="*/ 0 w 2738160"/>
                <a:gd name="textAreaRight" fmla="*/ 2738520 w 2738160"/>
                <a:gd name="textAreaTop" fmla="*/ 0 h 2433600"/>
                <a:gd name="textAreaBottom" fmla="*/ 2433960 h 243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2054"/>
            <p:cNvSpPr/>
            <p:nvPr/>
          </p:nvSpPr>
          <p:spPr>
            <a:xfrm rot="8640000">
              <a:off x="3832920" y="3246480"/>
              <a:ext cx="2433240" cy="2737440"/>
            </a:xfrm>
            <a:custGeom>
              <a:avLst/>
              <a:gdLst>
                <a:gd name="textAreaLeft" fmla="*/ 0 w 2433240"/>
                <a:gd name="textAreaRight" fmla="*/ 2433600 w 2433240"/>
                <a:gd name="textAreaTop" fmla="*/ 0 h 2737440"/>
                <a:gd name="textAreaBottom" fmla="*/ 2737800 h 273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2055"/>
            <p:cNvSpPr/>
            <p:nvPr/>
          </p:nvSpPr>
          <p:spPr>
            <a:xfrm rot="12960000">
              <a:off x="2880360" y="3246480"/>
              <a:ext cx="2433600" cy="2737440"/>
            </a:xfrm>
            <a:custGeom>
              <a:avLst/>
              <a:gdLst>
                <a:gd name="textAreaLeft" fmla="*/ 0 w 2433600"/>
                <a:gd name="textAreaRight" fmla="*/ 2433960 w 2433600"/>
                <a:gd name="textAreaTop" fmla="*/ 0 h 2737440"/>
                <a:gd name="textAreaBottom" fmla="*/ 2737800 h 273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2056"/>
            <p:cNvSpPr/>
            <p:nvPr/>
          </p:nvSpPr>
          <p:spPr>
            <a:xfrm rot="17280000">
              <a:off x="2432880" y="2376720"/>
              <a:ext cx="2738160" cy="2433600"/>
            </a:xfrm>
            <a:custGeom>
              <a:avLst/>
              <a:gdLst>
                <a:gd name="textAreaLeft" fmla="*/ 0 w 2738160"/>
                <a:gd name="textAreaRight" fmla="*/ 2738520 w 2738160"/>
                <a:gd name="textAreaTop" fmla="*/ 0 h 2433600"/>
                <a:gd name="textAreaBottom" fmla="*/ 2433960 h 243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2057"/>
            <p:cNvSpPr/>
            <p:nvPr/>
          </p:nvSpPr>
          <p:spPr>
            <a:xfrm>
              <a:off x="5196960" y="1709640"/>
              <a:ext cx="894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Перегн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2058"/>
            <p:cNvSpPr/>
            <p:nvPr/>
          </p:nvSpPr>
          <p:spPr>
            <a:xfrm>
              <a:off x="5860080" y="4004280"/>
              <a:ext cx="894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Образов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66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солей</a:t>
              </a:r>
              <a:r>
                <a:rPr b="0" lang="en-US" sz="1600" spc="-1" strike="noStrike">
                  <a:solidFill>
                    <a:srgbClr val="ff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2059"/>
            <p:cNvSpPr/>
            <p:nvPr/>
          </p:nvSpPr>
          <p:spPr>
            <a:xfrm>
              <a:off x="4126680" y="5424840"/>
              <a:ext cx="8956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Использую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растения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2060"/>
            <p:cNvSpPr/>
            <p:nvPr/>
          </p:nvSpPr>
          <p:spPr>
            <a:xfrm>
              <a:off x="2390400" y="4008240"/>
              <a:ext cx="894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Питаютс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живот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2061"/>
            <p:cNvSpPr/>
            <p:nvPr/>
          </p:nvSpPr>
          <p:spPr>
            <a:xfrm>
              <a:off x="3052080" y="1709640"/>
              <a:ext cx="8949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Отмир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расте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и животных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5" name=""/>
          <p:cNvGraphicFramePr/>
          <p:nvPr/>
        </p:nvGraphicFramePr>
        <p:xfrm>
          <a:off x="8935920" y="5445000"/>
          <a:ext cx="208080" cy="70956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709560">
                <a:tc>
                  <a:txBody>
                    <a:bodyPr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6" name="Picture 33" descr="1 (11)"/>
          <p:cNvPicPr/>
          <p:nvPr/>
        </p:nvPicPr>
        <p:blipFill>
          <a:blip r:embed="rId1"/>
          <a:stretch/>
        </p:blipFill>
        <p:spPr>
          <a:xfrm>
            <a:off x="6372360" y="692280"/>
            <a:ext cx="2520720" cy="2232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4" descr="1 (49)"/>
          <p:cNvPicPr/>
          <p:nvPr/>
        </p:nvPicPr>
        <p:blipFill>
          <a:blip r:embed="rId2"/>
          <a:stretch/>
        </p:blipFill>
        <p:spPr>
          <a:xfrm>
            <a:off x="6948360" y="4437000"/>
            <a:ext cx="1944720" cy="2232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5" descr="EXPO1184"/>
          <p:cNvPicPr/>
          <p:nvPr/>
        </p:nvPicPr>
        <p:blipFill>
          <a:blip r:embed="rId3"/>
          <a:stretch/>
        </p:blipFill>
        <p:spPr>
          <a:xfrm>
            <a:off x="250920" y="3716280"/>
            <a:ext cx="1944720" cy="2952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6" descr="EXPO4673"/>
          <p:cNvPicPr/>
          <p:nvPr/>
        </p:nvPicPr>
        <p:blipFill>
          <a:blip r:embed="rId4"/>
          <a:stretch/>
        </p:blipFill>
        <p:spPr>
          <a:xfrm>
            <a:off x="250920" y="692280"/>
            <a:ext cx="208908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DejaVu Serif"/>
                <a:ea typeface="DejaVu Serif"/>
              </a:rPr>
              <a:t>Среда, насыщенная жизнью…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1" name="Содержимое 3" descr="схема.jpg"/>
          <p:cNvPicPr/>
          <p:nvPr/>
        </p:nvPicPr>
        <p:blipFill>
          <a:blip r:embed="rId1"/>
          <a:stretch/>
        </p:blipFill>
        <p:spPr>
          <a:xfrm>
            <a:off x="0" y="1125360"/>
            <a:ext cx="9015480" cy="5121360"/>
          </a:xfrm>
          <a:prstGeom prst="rect">
            <a:avLst/>
          </a:prstGeom>
          <a:ln w="0">
            <a:noFill/>
          </a:ln>
        </p:spPr>
      </p:pic>
    </p:spTree>
  </p:cSld>
  <p:transition>
    <p:wipe dir="d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DejaVu Serif"/>
              </a:rPr>
              <a:t>О самых незаметных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DejaVu Serif"/>
              </a:rPr>
              <a:t>…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4000" y="907920"/>
            <a:ext cx="8642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DejaVu Serif"/>
              </a:rPr>
              <a:t>Корни растений, грибницы различных грибов пронизывают почву. Особенно много в почве микроорганизм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DejaVu Serif"/>
              </a:rPr>
              <a:t>Так, в 1 кв. см почвы содержатся десятки и даже сотни миллионов бактерий, простейших, одноклеточных грибов и даже водорослей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3" descr="почвенная бактерия.jpg"/>
          <p:cNvPicPr/>
          <p:nvPr/>
        </p:nvPicPr>
        <p:blipFill>
          <a:blip r:embed="rId1"/>
          <a:stretch/>
        </p:blipFill>
        <p:spPr>
          <a:xfrm>
            <a:off x="0" y="4076640"/>
            <a:ext cx="1908000" cy="230184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4" descr="одноклеточная водоросль.jpg"/>
          <p:cNvPicPr/>
          <p:nvPr/>
        </p:nvPicPr>
        <p:blipFill>
          <a:blip r:embed="rId2"/>
          <a:stretch/>
        </p:blipFill>
        <p:spPr>
          <a:xfrm>
            <a:off x="4572000" y="4149720"/>
            <a:ext cx="2908440" cy="218124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5" descr="простейшие.jpg"/>
          <p:cNvPicPr/>
          <p:nvPr/>
        </p:nvPicPr>
        <p:blipFill>
          <a:blip r:embed="rId3"/>
          <a:stretch/>
        </p:blipFill>
        <p:spPr>
          <a:xfrm>
            <a:off x="1768320" y="4292640"/>
            <a:ext cx="3183120" cy="208908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6" descr="index2.jpg"/>
          <p:cNvPicPr/>
          <p:nvPr/>
        </p:nvPicPr>
        <p:blipFill>
          <a:blip r:embed="rId4"/>
          <a:stretch/>
        </p:blipFill>
        <p:spPr>
          <a:xfrm>
            <a:off x="7236000" y="4076640"/>
            <a:ext cx="1908000" cy="2320920"/>
          </a:xfrm>
          <a:prstGeom prst="rect">
            <a:avLst/>
          </a:prstGeom>
          <a:ln w="0">
            <a:noFill/>
          </a:ln>
        </p:spPr>
      </p:pic>
    </p:spTree>
  </p:cSld>
  <p:transition>
    <p:strips dir="ld"/>
    <p:sndAc>
      <p:stSnd>
        <p:snd r:embed="rId5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03:33:47Z</dcterms:created>
  <dc:creator>C4</dc:creator>
  <dc:description/>
  <dc:language>en-US</dc:language>
  <cp:lastModifiedBy>79995678691</cp:lastModifiedBy>
  <dcterms:modified xsi:type="dcterms:W3CDTF">2020-11-28T17:08:28Z</dcterms:modified>
  <cp:revision>52</cp:revision>
  <dc:subject/>
  <dc:title>Слайд 1</dc:title>
</cp:coreProperties>
</file>