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0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4.jpeg" ContentType="image/jpe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C54A5-2982-4D3A-8376-74D36B6B538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0DD95-2E14-447B-8F33-3FA4EF8703F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7D33-D12B-48F7-BA65-05A87EB92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B29E-9CDB-4F69-B7C2-BC781EF92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7393-9BC8-4D9E-8133-7D08C1DEB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7FFB-5562-4DB7-BBA7-11A23DA2C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35672-8D77-4FCE-97DA-4D56DB321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05CC6-25E3-4A97-B38C-7990996A2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E7637-42DB-406B-BE92-F92C3DFA8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48AD8-D8D5-43C0-BBA8-5F8B556C5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A90D0-8F11-45C7-AE13-DB25E634A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27634-1B47-4268-8FC3-551AA5CF8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E7F6C-E935-4387-B83C-FBBFCE8D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281F-51DB-41E9-B525-40A4E2B7D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B3B1F-C32E-4803-892C-CEF33777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C4BC9-615B-4091-B903-4BC1AFD7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4B480-A251-417F-87ED-9F15B46B1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03B44-28D6-4A0A-AA9C-8661C5B07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6488C-E0D1-41A6-A13B-2DC847025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F9FFB-F1AA-4853-A2E9-C89CD48BF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D80A7-18F4-443D-BE39-67AD71EA2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F5AF0-BC17-45A3-BA5B-FA3BAE1E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24CC9-8A47-4E78-93B1-E1AC0F55E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E6596-885A-4348-9D58-05082AE09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E3E6-0F23-4470-88F5-9ABEFADBB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DBD08-2BEC-4996-94FF-D810F9102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1E479-71B5-430E-9456-2D637E02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5542C-090F-4F3E-937E-CC8C05A84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3846C-8195-4337-846D-B1EDC81A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F8825-EB27-49CD-86F2-DB8351347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140B1-2F38-42CE-B62D-9006B43F2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A7197-37F1-4629-B100-FD4038129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DEF41-72D0-4252-AB74-3C8FCBF1D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8BF52-EB74-4E37-9CB0-633413830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95E53-AE29-4B0A-AC75-04B8FEE2B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CAC5-21A8-40DE-8CCD-49371C357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DDC94-8D64-4B02-809C-9D9D6F876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B5EAA-CDB1-4AD4-BDEF-CC5B154CD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CE637-8ED6-4AAE-B794-A46F991D2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6E6E8-F730-4232-B90A-B16DD9DB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5D18A-04E5-4CC4-B6EE-F380636A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28D19-5786-41B2-AE49-B4B89505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5B6EC-8DBF-4BFA-9E93-7F3D20A8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CF804-641E-4971-82FA-DDEE112F7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0E79B-5655-426A-B1BC-A5A987149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7D11A-BFA9-4A31-B678-7E9F287BD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BAD7-33A1-41CB-B98C-C761540C1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895F2-AF0C-4FDD-BC55-223B9EFD9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82038-1DF4-4D94-AC96-78F211FE9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96637-305B-43E2-B5C6-88C41259C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93198-310F-4CDA-982C-44077AB5C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A52D6-2D57-4B68-A8E4-C32B72B31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AA669-4266-4946-B9A4-A2B97F17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0A208-17C7-4A33-A6AA-20DBD552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BECAD-F1AC-406B-8147-3ECD260B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81C06-ADCC-42A1-A13C-C1ABB8B44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634CC-9D1F-4E2E-8AFA-BA14B85FC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F31A-C598-4C4C-80D8-CDE5F25A1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BF631-3848-44A5-BF51-53EADEBCB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20B6-EB32-482E-BADF-3D064CBF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8589-69C9-44FC-8C83-740A78F5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BD94-E25F-49CE-8840-EE36E348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7CD65-A5CF-42A7-99D2-E6A6DA2B48F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C9892-F47A-4A59-8390-E02DF511FADF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B4F18-25C8-4DEA-AC26-612EAFB1A0DC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E0683-D9C8-4CAB-B86A-4CFD775A813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60453-35A7-4DBF-A98D-A3592DE86FD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1182600" y="-85680"/>
            <a:ext cx="8388360" cy="28652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C:\Users\79995\Desktop\изонить\Тема  Морские просторы\12538ee1109f5012f56798dece3w-derevo-korabl.jpg"/>
          <p:cNvPicPr/>
          <p:nvPr/>
        </p:nvPicPr>
        <p:blipFill>
          <a:blip r:embed="rId2"/>
          <a:stretch/>
        </p:blipFill>
        <p:spPr>
          <a:xfrm>
            <a:off x="3203640" y="2708280"/>
            <a:ext cx="5006880" cy="39006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C:\Users\79995\Desktop\изонить\Тема  Морские просторы\7dcc763d749d5a63775c0fecaffd8c74.jpg"/>
          <p:cNvPicPr/>
          <p:nvPr/>
        </p:nvPicPr>
        <p:blipFill>
          <a:blip r:embed="rId3"/>
          <a:stretch/>
        </p:blipFill>
        <p:spPr>
          <a:xfrm>
            <a:off x="395280" y="2637000"/>
            <a:ext cx="223200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Box 1"/>
          <p:cNvSpPr/>
          <p:nvPr/>
        </p:nvSpPr>
        <p:spPr>
          <a:xfrm>
            <a:off x="395280" y="333360"/>
            <a:ext cx="83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Схема для практической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4" descr="C:\Users\79995\Desktop\изонить\Тема  Морские просторы\9dddefd664d642192a2a048932eb80a1.jpg"/>
          <p:cNvPicPr/>
          <p:nvPr/>
        </p:nvPicPr>
        <p:blipFill>
          <a:blip r:embed="rId1"/>
          <a:stretch/>
        </p:blipFill>
        <p:spPr>
          <a:xfrm>
            <a:off x="2195640" y="1131840"/>
            <a:ext cx="482760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74437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МАТЕРИАЛЫ И ИНСТРУМЕНТ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Прямоугольник 3"/>
          <p:cNvSpPr/>
          <p:nvPr/>
        </p:nvSpPr>
        <p:spPr>
          <a:xfrm>
            <a:off x="142920" y="1285920"/>
            <a:ext cx="36432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Цветной кар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итки: </a:t>
            </a:r>
            <a:r>
              <a:rPr b="1" i="1" lang="ru-RU" sz="2400" spc="-1" strike="noStrike">
                <a:solidFill>
                  <a:srgbClr val="262626"/>
                </a:solidFill>
                <a:latin typeface="Constantia"/>
                <a:ea typeface="Times New Roman"/>
              </a:rPr>
              <a:t>ирис, мулине, обычные шве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ож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Иг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Лин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Скот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>
            <a:off x="4932360" y="189000"/>
            <a:ext cx="2928960" cy="2039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2778120" cy="19288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3"/>
          <a:stretch/>
        </p:blipFill>
        <p:spPr>
          <a:xfrm>
            <a:off x="2484360" y="3716280"/>
            <a:ext cx="1604880" cy="25718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"/>
          <p:cNvPicPr/>
          <p:nvPr/>
        </p:nvPicPr>
        <p:blipFill>
          <a:blip r:embed="rId4"/>
          <a:stretch/>
        </p:blipFill>
        <p:spPr>
          <a:xfrm>
            <a:off x="5724360" y="4365720"/>
            <a:ext cx="2894040" cy="19288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8" descr=""/>
          <p:cNvPicPr/>
          <p:nvPr/>
        </p:nvPicPr>
        <p:blipFill>
          <a:blip r:embed="rId5"/>
          <a:stretch/>
        </p:blipFill>
        <p:spPr>
          <a:xfrm>
            <a:off x="4211640" y="3789360"/>
            <a:ext cx="1282680" cy="28576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9" descr=""/>
          <p:cNvPicPr/>
          <p:nvPr/>
        </p:nvPicPr>
        <p:blipFill>
          <a:blip r:embed="rId6"/>
          <a:stretch/>
        </p:blipFill>
        <p:spPr>
          <a:xfrm>
            <a:off x="3564000" y="2421000"/>
            <a:ext cx="2136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56760" y="142560"/>
            <a:ext cx="80010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Элементы узор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64" name="Group 8"/>
          <p:cNvGrpSpPr/>
          <p:nvPr/>
        </p:nvGrpSpPr>
        <p:grpSpPr>
          <a:xfrm>
            <a:off x="3745080" y="2933640"/>
            <a:ext cx="1653840" cy="990720"/>
            <a:chOff x="3745080" y="2933640"/>
            <a:chExt cx="1653840" cy="990720"/>
          </a:xfrm>
        </p:grpSpPr>
        <p:sp>
          <p:nvSpPr>
            <p:cNvPr id="265" name="Rectangle 5"/>
            <p:cNvSpPr/>
            <p:nvPr/>
          </p:nvSpPr>
          <p:spPr>
            <a:xfrm>
              <a:off x="3745080" y="2933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6"/>
            <p:cNvSpPr/>
            <p:nvPr/>
          </p:nvSpPr>
          <p:spPr>
            <a:xfrm>
              <a:off x="3745080" y="2933640"/>
              <a:ext cx="16538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  </a:t>
              </a:r>
              <a:r>
                <a:rPr b="0" lang="ru-RU" sz="5900" spc="-1" strike="noStrike">
                  <a:solidFill>
                    <a:srgbClr val="663300"/>
                  </a:solidFill>
                  <a:latin typeface="Arial"/>
                </a:rPr>
                <a:t> </a:t>
              </a: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7" name="Picture 51" descr="1"/>
          <p:cNvPicPr/>
          <p:nvPr/>
        </p:nvPicPr>
        <p:blipFill>
          <a:blip r:embed="rId1"/>
          <a:stretch/>
        </p:blipFill>
        <p:spPr>
          <a:xfrm>
            <a:off x="2627280" y="2205000"/>
            <a:ext cx="3849840" cy="389736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52"/>
          <p:cNvSpPr/>
          <p:nvPr/>
        </p:nvSpPr>
        <p:spPr>
          <a:xfrm>
            <a:off x="1476360" y="1628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Д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54"/>
          <p:cNvSpPr/>
          <p:nvPr/>
        </p:nvSpPr>
        <p:spPr>
          <a:xfrm flipH="1">
            <a:off x="5940000" y="2924280"/>
            <a:ext cx="5763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5"/>
          <p:cNvSpPr/>
          <p:nvPr/>
        </p:nvSpPr>
        <p:spPr>
          <a:xfrm>
            <a:off x="6516720" y="2565360"/>
            <a:ext cx="11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6"/>
          <p:cNvSpPr/>
          <p:nvPr/>
        </p:nvSpPr>
        <p:spPr>
          <a:xfrm flipV="1">
            <a:off x="2843280" y="5949720"/>
            <a:ext cx="1800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7"/>
          <p:cNvSpPr/>
          <p:nvPr/>
        </p:nvSpPr>
        <p:spPr>
          <a:xfrm>
            <a:off x="1547640" y="5877000"/>
            <a:ext cx="115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У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58"/>
          <p:cNvSpPr/>
          <p:nvPr/>
        </p:nvSpPr>
        <p:spPr>
          <a:xfrm>
            <a:off x="2627280" y="220500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1" descr="tb_igly"/>
          <p:cNvPicPr/>
          <p:nvPr/>
        </p:nvPicPr>
        <p:blipFill>
          <a:blip r:embed="rId1"/>
          <a:stretch/>
        </p:blipFill>
        <p:spPr>
          <a:xfrm>
            <a:off x="7072200" y="500040"/>
            <a:ext cx="1862280" cy="221940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3"/>
          <p:cNvSpPr/>
          <p:nvPr/>
        </p:nvSpPr>
        <p:spPr>
          <a:xfrm>
            <a:off x="0" y="44640"/>
            <a:ext cx="9001080" cy="62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ПРАВИЛА ТЕХНИКИ БЕЗОПАСНОСТИ  ПРИ РАБОТЕ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ИГОЛКАМИ И БУЛАВ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иголки и булавки в игольниц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берите иголки  и булавки в 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ользуйтесь при работе ржавыми  иглами и булав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Во время работы не вкалывайте иголки и булавки в одеж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ерекусывайте нитку зубами — можно испортить эмаль и поранить гу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До и после работы проверь количество иг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Игла всегда должна быть с ниткой для того, чтобы ее легче было найти, если она потер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Сломанную иглу надо завернуть в плотную бумагу и выбро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500040" y="1425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ПРАВИЛА ТЕХНИКИ БЕЗОПАСНОСТИ ПРИ РАБОТЕ С НОЖНИЦ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1" descr="tb_nozhnicy"/>
          <p:cNvPicPr/>
          <p:nvPr/>
        </p:nvPicPr>
        <p:blipFill>
          <a:blip r:embed="rId1"/>
          <a:stretch/>
        </p:blipFill>
        <p:spPr>
          <a:xfrm>
            <a:off x="7358040" y="4071960"/>
            <a:ext cx="1531800" cy="114300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3"/>
          <p:cNvSpPr/>
          <p:nvPr/>
        </p:nvSpPr>
        <p:spPr>
          <a:xfrm>
            <a:off x="214200" y="928800"/>
            <a:ext cx="8715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Во время работы быть внимательным, не отвлекаться и не отвлекать других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ножницы в определенном   месте, кладите их сомкнутыми  острыми концами от себя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ередавайте ножницы нужно кольцами вперед с сомкнутыми лезвиям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резать на ходу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ри работе с ножницами необходимо следить за движением и положением лезвий во время работы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0" y="214200"/>
            <a:ext cx="742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ОХРАНА ТРУДА. ПРАВИЛЬНАЯ ПОСАДКА ВО ВРЕМ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1" descr="posadka"/>
          <p:cNvPicPr/>
          <p:nvPr/>
        </p:nvPicPr>
        <p:blipFill>
          <a:blip r:embed="rId1"/>
          <a:stretch/>
        </p:blipFill>
        <p:spPr>
          <a:xfrm>
            <a:off x="7429680" y="0"/>
            <a:ext cx="1660320" cy="157176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3"/>
          <p:cNvSpPr/>
          <p:nvPr/>
        </p:nvSpPr>
        <p:spPr>
          <a:xfrm>
            <a:off x="0" y="1314360"/>
            <a:ext cx="9001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оги должны твердо опираться всей подошвой об пол, так как при другом положении ног нарушается кровообращ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Свет должен падать слева или спере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опираться грудью на ст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уки должны быть согнуты в локтях и отставать от корпуса более чем на 1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асстояние от глаз до изделия или детали должно быть 30-4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В процессе работы следует периодически менять положение корпуса (из слегка согнутого к выпрямленному и обрат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3"/>
          <p:cNvSpPr/>
          <p:nvPr/>
        </p:nvSpPr>
        <p:spPr>
          <a:xfrm>
            <a:off x="324000" y="40464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Морские простор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4" descr="C:\Users\79995\Desktop\изонить\Тема  Морские просторы\368823.jpg"/>
          <p:cNvPicPr/>
          <p:nvPr/>
        </p:nvPicPr>
        <p:blipFill>
          <a:blip r:embed="rId1"/>
          <a:stretch/>
        </p:blipFill>
        <p:spPr>
          <a:xfrm>
            <a:off x="755640" y="1197000"/>
            <a:ext cx="74754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Box 3"/>
          <p:cNvSpPr/>
          <p:nvPr/>
        </p:nvSpPr>
        <p:spPr>
          <a:xfrm>
            <a:off x="324000" y="40464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Морские простор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" descr="C:\Users\79995\Desktop\изонить\Тема  Морские просторы\e88aa9edf47a1b434f674b817646d918.jpg"/>
          <p:cNvPicPr/>
          <p:nvPr/>
        </p:nvPicPr>
        <p:blipFill>
          <a:blip r:embed="rId1"/>
          <a:stretch/>
        </p:blipFill>
        <p:spPr>
          <a:xfrm>
            <a:off x="395280" y="1052640"/>
            <a:ext cx="4105440" cy="54720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3" descr="C:\Users\79995\Desktop\изонить\Тема  Морские просторы\eeaac8ad44d80de26c0a8bb3d49f9304.jpg"/>
          <p:cNvPicPr/>
          <p:nvPr/>
        </p:nvPicPr>
        <p:blipFill>
          <a:blip r:embed="rId2"/>
          <a:stretch/>
        </p:blipFill>
        <p:spPr>
          <a:xfrm>
            <a:off x="4788000" y="1052640"/>
            <a:ext cx="414504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Box 3"/>
          <p:cNvSpPr/>
          <p:nvPr/>
        </p:nvSpPr>
        <p:spPr>
          <a:xfrm>
            <a:off x="324000" y="40464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Морские простор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2" descr="C:\Users\79995\Desktop\изонить\Тема  Морские просторы\img5.jpg"/>
          <p:cNvPicPr/>
          <p:nvPr/>
        </p:nvPicPr>
        <p:blipFill>
          <a:blip r:embed="rId1"/>
          <a:stretch/>
        </p:blipFill>
        <p:spPr>
          <a:xfrm>
            <a:off x="1187280" y="1197000"/>
            <a:ext cx="70866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1T18:40:46Z</dcterms:created>
  <dc:creator>Екатерина</dc:creator>
  <dc:description/>
  <dc:language>en-US</dc:language>
  <cp:lastModifiedBy>79995678691</cp:lastModifiedBy>
  <dcterms:modified xsi:type="dcterms:W3CDTF">2020-11-28T17:31:12Z</dcterms:modified>
  <cp:revision>35</cp:revision>
  <dc:subject/>
  <dc:title>ТВОРЧЕСКАЯ ДЕЯТЕЛЬНОСТЬ: ЗНАКОМСТВО С ТЕХНИКОЙ ИЗОНИТЬ</dc:title>
</cp:coreProperties>
</file>