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9603-E072-4AD7-84B4-D5EFBCA67B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9DBB-3D43-47F3-8037-BFE8A5AD89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1168-2343-4612-8F80-F85AAB97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13F-930D-4CE4-BCBC-2943647B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80B0-9D76-453B-91D5-F9C4AE4F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318-E20B-402F-B93B-67313CC9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294E-BFC6-41BF-BCA0-25E961A8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1AB4-1FA7-4FA9-A12B-7FF280AD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C321-B7E5-4054-BE01-197D3AA2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5C4D-F924-4822-B5BD-264CF9FC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8146-AC83-452A-9F5F-7608F72B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F26E-E131-4D90-97CB-897AF3B0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BF61-6AE9-4199-B687-543ACF2E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4D0-5DCB-43DA-8035-1E36ACC9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BC22-BD21-42C9-A19E-0FD514CC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AFB0-74E9-47CE-B632-7F0A5DC0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8BAD-264C-4EDB-B5B4-7A03EA13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512D-E4B9-441E-803D-BFCD9CEF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583B-0BD7-417B-A6CB-110862A5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5DF28-75A1-4F56-B26A-E2F1E7E4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479E0-1C91-46D7-9019-892806D5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4ABC0-E3D6-4934-A63D-229619DB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196B8-ADE3-4526-BF56-C067F8E0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6102E-EAD5-4589-84CD-AB285AD8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BF76-2E88-4BC1-A97C-951AB031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30EEE-ABB9-4978-A2CF-5B04CD38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30866-462B-46EB-AAF1-2402D072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424FA-B3F9-4F10-B804-90D68C2F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A9C0A-A00C-4BEB-90FD-2830EAF2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BE7DA-A3B1-4AA4-95DB-C303E8BD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CE06D-7DE0-43D7-84D2-7D69420B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382B2-A9C8-44ED-85D7-3E9C9849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F4B31-62FF-4AD0-863C-CCC2BB8B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DD6C8-63F4-41BB-AEB6-94379718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C0569-1AB2-461D-BE34-C8CC1395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DCF-73B2-4987-A33B-453912E2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5D958-E487-4C96-B6F6-50C84FDD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E8589-8F76-4040-8B08-A0D9A86E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644ED-AE20-4E19-8A72-25E9BDC7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1E995-9DF3-4580-ABB4-FA5AE6B6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FED60-065A-476C-8DD5-CBF2FD27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BC19D-3548-4885-BF6C-B95D75F8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BF906-EEBE-47B6-BBB6-2B317EDF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F66E0-7338-4BD4-9874-E55369B2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D796C-2ED6-49B4-9EC8-A631CCF3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E5EBD-5418-46E5-9AA7-26E4355E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0748-062B-433D-9B6E-39F593F9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31B1E-0D9E-43F0-A19B-91C363BC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C1FC5-F7C1-43DF-8992-59D1098C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91787-641A-45C5-B2D6-6FE29888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F8F39-1091-476D-A88A-54A2E24A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D0730-32B0-4D42-9A17-44F1A615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7D22C-8263-4798-A6E4-A44A5F44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0C08F-C146-4B56-B05B-6A65D1B9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70B47-AD72-4309-A7AC-E06F7B7D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70757-FDEC-4353-AEA6-9DB9FAD5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6A10C-DCE3-4CC0-BB58-FAE25676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639-71E9-40BA-8AD4-3E4DB5CF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6543D-F0D9-46ED-986B-8017FFD4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3743-E4DD-4B17-B76E-EEC72139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0BE4-56FB-475E-A735-3582A755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87C8-C4A3-4D97-B60E-8450A8D2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A339-2D39-44C8-A144-A36A48691C8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5E4D-A48B-4A89-A790-99CCE5765BA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BF2F-03AF-41FB-8CDD-35EDE107C67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F331-FDA1-46D0-B96B-9FF1679C8FB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ADF3-E0B3-42B7-A63E-0BB5ED4BB8E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Тема  Морские просторы\12538ee1109f5012f56798dece3w-derevo-korabl.jpg"/>
          <p:cNvPicPr/>
          <p:nvPr/>
        </p:nvPicPr>
        <p:blipFill>
          <a:blip r:embed="rId2"/>
          <a:stretch/>
        </p:blipFill>
        <p:spPr>
          <a:xfrm>
            <a:off x="3203640" y="2708280"/>
            <a:ext cx="5006880" cy="390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79995\Desktop\изонить\Тема  Морские просторы\7dcc763d749d5a63775c0fecaffd8c74.jpg"/>
          <p:cNvPicPr/>
          <p:nvPr/>
        </p:nvPicPr>
        <p:blipFill>
          <a:blip r:embed="rId3"/>
          <a:stretch/>
        </p:blipFill>
        <p:spPr>
          <a:xfrm>
            <a:off x="395280" y="2637000"/>
            <a:ext cx="2232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C:\Users\79995\Desktop\изонить\Тема  Морские просторы\9dddefd664d642192a2a048932eb80a1.jpg"/>
          <p:cNvPicPr/>
          <p:nvPr/>
        </p:nvPicPr>
        <p:blipFill>
          <a:blip r:embed="rId1"/>
          <a:stretch/>
        </p:blipFill>
        <p:spPr>
          <a:xfrm>
            <a:off x="2195640" y="1131840"/>
            <a:ext cx="48276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изонить\Тема  Морские просторы\368823.jpg"/>
          <p:cNvPicPr/>
          <p:nvPr/>
        </p:nvPicPr>
        <p:blipFill>
          <a:blip r:embed="rId1"/>
          <a:stretch/>
        </p:blipFill>
        <p:spPr>
          <a:xfrm>
            <a:off x="755640" y="1197000"/>
            <a:ext cx="74754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79995\Desktop\изонить\Тема  Морские просторы\e88aa9edf47a1b434f674b817646d918.jpg"/>
          <p:cNvPicPr/>
          <p:nvPr/>
        </p:nvPicPr>
        <p:blipFill>
          <a:blip r:embed="rId1"/>
          <a:stretch/>
        </p:blipFill>
        <p:spPr>
          <a:xfrm>
            <a:off x="395280" y="1052640"/>
            <a:ext cx="4105440" cy="5472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79995\Desktop\изонить\Тема  Морские просторы\eeaac8ad44d80de26c0a8bb3d49f9304.jpg"/>
          <p:cNvPicPr/>
          <p:nvPr/>
        </p:nvPicPr>
        <p:blipFill>
          <a:blip r:embed="rId2"/>
          <a:stretch/>
        </p:blipFill>
        <p:spPr>
          <a:xfrm>
            <a:off x="4788000" y="1052640"/>
            <a:ext cx="41450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79995\Desktop\изонить\Тема  Морские просторы\img5.jpg"/>
          <p:cNvPicPr/>
          <p:nvPr/>
        </p:nvPicPr>
        <p:blipFill>
          <a:blip r:embed="rId1"/>
          <a:stretch/>
        </p:blipFill>
        <p:spPr>
          <a:xfrm>
            <a:off x="1187280" y="1197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28T17:31:12Z</dcterms:modified>
  <cp:revision>35</cp:revision>
  <dc:subject/>
  <dc:title>ТВОРЧЕСКАЯ ДЕЯТЕЛЬНОСТЬ: ЗНАКОМСТВО С ТЕХНИКОЙ ИЗОНИТЬ</dc:title>
</cp:coreProperties>
</file>