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0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4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388D-23B0-4EF9-8F47-B3406105C7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29A3-A775-4818-929C-B6F214AB3B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6FDA-CBC1-428C-BF84-43CB03BCB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07B5-D754-4C9B-8E21-1EDE5534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C2D1-EF4E-4A26-8882-69606B023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8DD6-9388-4177-8CB8-88E46B4BA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57E5-37DB-41F4-9BC6-49046A8C0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7453-6ABA-470A-8FE0-728D2F9E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76BD-9C7C-4C24-959F-8B62DA96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59DC-C3B2-4870-86F5-801EC548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BE57-6A32-480C-836B-DE1FAFD4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8776-ED95-4041-8524-3193BA17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BCD1-0309-4D27-9C09-4294FF27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7C32-4166-47ED-8337-445D001F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9440-84A3-46C7-8E7D-F0D3B459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D9AE-1E5F-4FB9-9FBB-DD604F2B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56CE-4BC3-4F0A-BCCC-9566E4B1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66AD-DCDB-4F56-B00B-3A6E3F945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A9A80-ED7D-4740-A016-C108776E6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E92DA-F014-42D3-BB40-4C219109D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2AC01-D272-484D-AE07-11026FCC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23588-8A10-4A7D-B764-981EA1CE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9FD87-C9CE-458A-8CB6-4537FE7E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FE263-D1BB-4834-9AAA-99B5185E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6E54-FC71-4AD9-AD7A-212BB74A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96961-43DB-4146-B2B1-D8C38104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F156F-55FC-4626-AA68-48AA26CC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AAA0D-DBCD-469A-A689-6896475C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7FF7B-8089-48C4-98A7-510C9EAC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ED0E6-B57E-407C-8B45-233AF39B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E7F3E-DCBB-4897-ADEF-9268B2BC7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BABB5-A287-4C90-BC44-3E6C1529B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6EE9C-EB41-4C0A-9902-C44D6ED57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0860E-607D-476A-BA0C-F83D5B2F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88C64-C832-4218-BD8F-BF1B2F32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99B6-B024-4614-8FC2-AAE2C8EE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4DC5C-5BB1-4610-BFCC-7D85CA9E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8D1CA-05BE-4ACB-8B26-849D5556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F01EF-6A7E-407E-A3F0-D2CB1F30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8F811-FADF-45F2-8DF8-966CA448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E7EDA-C42A-40FD-BEDF-BD9B4B16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A6176-744F-4D6B-9674-53D1CAB1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16EC3-B4EF-4B15-8591-3F9AF627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4214E-4F26-455A-BBB0-A3EF63BB0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C887A-9ED6-4CCF-8472-1CE8E7DA3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9709F-87A4-4941-989D-167576EF1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CC76-28DF-4C1C-8611-8BA678C5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ECC4B-A814-4DA8-A851-0CB4D109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E2FBC-1D84-464E-BD21-1A726402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08936-213A-4844-96EB-54783D6B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CB9C4-EE7D-40F1-86E6-DC9151D1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184FC-A1CE-4BEA-AEAA-AAF7FE04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2E334-A725-4387-B0A3-73E4F41F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29B5C-5146-455E-8449-B0AC5A26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79C4D-9246-4F81-AB6E-0DBC7084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5DF80-548F-41FD-8B4F-C515ADBA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3DFAC-F71A-4F7A-9303-0BFC9FC32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2F77-7163-4727-AF05-32D771CD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1F4F4-FFAF-4B88-8A6A-281BD4054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44B5-AF38-4642-8AB4-8076B144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6F2A-B111-4FD4-950B-A38834BD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0292-961B-43B6-BC59-61D3BB2B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6D36-08C3-48FB-B6D0-5B181EBDBB8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4F5F-AD6E-44B1-BF57-49C44B73621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760D-D550-4B3B-B727-9546DEF000E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3757-D935-41BC-8210-2CFFB67876E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8252-D194-4B18-A634-FBED7D9B6FD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1182600" y="-85680"/>
            <a:ext cx="8388360" cy="2865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C:\Users\79995\Desktop\изонить\Тема  Морские просторы\12538ee1109f5012f56798dece3w-derevo-korabl.jpg"/>
          <p:cNvPicPr/>
          <p:nvPr/>
        </p:nvPicPr>
        <p:blipFill>
          <a:blip r:embed="rId2"/>
          <a:stretch/>
        </p:blipFill>
        <p:spPr>
          <a:xfrm>
            <a:off x="3203640" y="2708280"/>
            <a:ext cx="5006880" cy="39006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C:\Users\79995\Desktop\изонить\Тема  Морские просторы\7dcc763d749d5a63775c0fecaffd8c74.jpg"/>
          <p:cNvPicPr/>
          <p:nvPr/>
        </p:nvPicPr>
        <p:blipFill>
          <a:blip r:embed="rId3"/>
          <a:stretch/>
        </p:blipFill>
        <p:spPr>
          <a:xfrm>
            <a:off x="395280" y="2637000"/>
            <a:ext cx="223200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1"/>
          <p:cNvSpPr/>
          <p:nvPr/>
        </p:nvSpPr>
        <p:spPr>
          <a:xfrm>
            <a:off x="395280" y="33336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C:\Users\79995\Desktop\изонить\Тема  Морские просторы\9dddefd664d642192a2a048932eb80a1.jpg"/>
          <p:cNvPicPr/>
          <p:nvPr/>
        </p:nvPicPr>
        <p:blipFill>
          <a:blip r:embed="rId1"/>
          <a:stretch/>
        </p:blipFill>
        <p:spPr>
          <a:xfrm>
            <a:off x="2195640" y="1131840"/>
            <a:ext cx="482760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4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5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3"/>
          <p:cNvSpPr/>
          <p:nvPr/>
        </p:nvSpPr>
        <p:spPr>
          <a:xfrm>
            <a:off x="324000" y="404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Морские простор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C:\Users\79995\Desktop\изонить\Тема  Морские просторы\368823.jpg"/>
          <p:cNvPicPr/>
          <p:nvPr/>
        </p:nvPicPr>
        <p:blipFill>
          <a:blip r:embed="rId1"/>
          <a:stretch/>
        </p:blipFill>
        <p:spPr>
          <a:xfrm>
            <a:off x="755640" y="1197000"/>
            <a:ext cx="74754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3"/>
          <p:cNvSpPr/>
          <p:nvPr/>
        </p:nvSpPr>
        <p:spPr>
          <a:xfrm>
            <a:off x="324000" y="404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Морские простор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C:\Users\79995\Desktop\изонить\Тема  Морские просторы\e88aa9edf47a1b434f674b817646d918.jpg"/>
          <p:cNvPicPr/>
          <p:nvPr/>
        </p:nvPicPr>
        <p:blipFill>
          <a:blip r:embed="rId1"/>
          <a:stretch/>
        </p:blipFill>
        <p:spPr>
          <a:xfrm>
            <a:off x="395280" y="1052640"/>
            <a:ext cx="4105440" cy="54720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C:\Users\79995\Desktop\изонить\Тема  Морские просторы\eeaac8ad44d80de26c0a8bb3d49f9304.jpg"/>
          <p:cNvPicPr/>
          <p:nvPr/>
        </p:nvPicPr>
        <p:blipFill>
          <a:blip r:embed="rId2"/>
          <a:stretch/>
        </p:blipFill>
        <p:spPr>
          <a:xfrm>
            <a:off x="4788000" y="1052640"/>
            <a:ext cx="414504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3"/>
          <p:cNvSpPr/>
          <p:nvPr/>
        </p:nvSpPr>
        <p:spPr>
          <a:xfrm>
            <a:off x="324000" y="404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Морские простор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C:\Users\79995\Desktop\изонить\Тема  Морские просторы\img5.jpg"/>
          <p:cNvPicPr/>
          <p:nvPr/>
        </p:nvPicPr>
        <p:blipFill>
          <a:blip r:embed="rId1"/>
          <a:stretch/>
        </p:blipFill>
        <p:spPr>
          <a:xfrm>
            <a:off x="1187280" y="119700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1-28T17:31:12Z</dcterms:modified>
  <cp:revision>35</cp:revision>
  <dc:subject/>
  <dc:title>ТВОРЧЕСКАЯ ДЕЯТЕЛЬНОСТЬ: ЗНАКОМСТВО С ТЕХНИКОЙ ИЗОНИТЬ</dc:title>
</cp:coreProperties>
</file>