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A98-EAC0-4F87-999A-A984BF300E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9332-7242-49CE-8D46-8D984133A0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BDB-93B4-4D3D-B0C9-58920091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162-6372-4269-8876-92FF92FE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1F0-58F7-442A-B1BD-6B1EF98F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9DA-591B-4CC1-8289-2E1FA44A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DC64-7E3C-4C04-85C2-308F9949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57E7-DFBA-4947-9985-8F04C14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A30F-C846-46D9-9B5A-DADADD5B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D94-3B57-42FF-BCEA-A3498596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A992-502C-4734-B5FE-B43758F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F41-7E5D-40BF-82E2-07F9728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257-09C0-4579-BB4F-54C095B1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BDA-5722-4BF8-8C50-D814BA29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E0E4-E396-4103-A723-2411EEEB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967C-BEDD-4BB0-921C-8BE6218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5F5E-DEB3-4A15-811C-9DA355C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5368-41CE-4485-ADB4-DF6D2789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8225-66F8-484C-8701-E86874DB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E06E-1169-467E-A545-6AF4DD6F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72D9-C7CE-4029-A644-438DDB2B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8D04-1207-4EBA-B09E-991926F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BB95-F508-4E8D-BE10-5C869E7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D0B1-6CDA-436B-B550-A4F2BA06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35A-44AF-4E49-BF1A-26A3785A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8C99-ABB0-405B-A7D7-A0DD64A4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0FBB-D5FE-4BC7-AC56-57B9D55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3CBB-70BC-4FB1-B61F-A64EBF7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6E79-F94C-42C1-8E77-708F685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E022-FE65-481C-B920-9BE65CA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A8FB-E644-447B-8F17-8B96D6B9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B45D-3A1A-4735-BFA2-115484DF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C3B1-6552-48A1-8BD3-D341D35F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4BC0-6452-4984-BE15-B791DB88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01BB-B4C5-4503-9045-F81BAF48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299-85D6-453B-BF72-1F5DD7E9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72CE-7EB5-4966-8902-97B2D77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6EF4-FF71-4EB2-9930-62459FD6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1BB5-9338-47DC-A76E-A08CC288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7325-61E1-4BC4-BD38-CA69F86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8BAF-C341-40C6-97CD-3AB020F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636E-8864-462F-9211-659B33D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95DB-2B99-4268-954F-A85DA7A3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0957-1A1C-4DAB-805B-F4E1D49A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4943-D607-400C-8DC5-3F4FC63D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52052-D323-4E87-B529-860FEB82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CD8-FA10-486D-AFCD-C5610EC9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64F0-C6CC-4BFD-BA59-68E034B8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8450-79A6-4DC9-A7B4-AF764F33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467F-EE3C-4574-941B-BE7FF88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851C-0FB2-4EDE-AAA3-95277932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494B-E4CB-4FE3-B704-729FFE4B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6D6BC-C56F-4A36-9A71-061D9B9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8617-2929-48CF-904A-71A50B6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A6CB-915F-4AA2-9147-D8329B0A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38B44-36FD-486F-ADCE-C5933DF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8932-4C15-4EF6-9DA4-F48884F2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5E1-C4EA-4BD9-86E1-49A3F170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0A21-7049-423E-8168-A61BDDAB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C47-7595-4123-8FD4-042C37A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DA6-50C5-4EB6-89F3-4830D6D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4F2-4D40-4EB4-9ED3-B054680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F0C-5D8A-4627-A8FA-7C014765B8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FD73-1B29-43E9-BAC2-905F13914B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DD1D-0BD6-454A-ABB3-14DB3FAE61F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D542-3340-4273-A97D-F03F1688EA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837-E3AE-48EA-8CD2-D31594FB910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\9dddefd664d642192a2a048932eb80a1.jpg"/>
          <p:cNvPicPr/>
          <p:nvPr/>
        </p:nvPicPr>
        <p:blipFill>
          <a:blip r:embed="rId1"/>
          <a:stretch/>
        </p:blipFill>
        <p:spPr>
          <a:xfrm>
            <a:off x="2195640" y="1131840"/>
            <a:ext cx="4827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8T17:31:12Z</dcterms:modified>
  <cp:revision>35</cp:revision>
  <dc:subject/>
  <dc:title>ТВОРЧЕСКАЯ ДЕЯТЕЛЬНОСТЬ: ЗНАКОМСТВО С ТЕХНИКОЙ ИЗОНИТЬ</dc:title>
</cp:coreProperties>
</file>