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89C5-DB34-4139-8B0A-C13A36C198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45D0-11E2-458D-8C13-BDC235ECBB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0540-DD94-41E5-91D5-D0807848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CE32-D146-47E5-93F6-F994466B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5308-413F-409C-A714-02C0386A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FA6-9924-4B4D-8AE2-214D9472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ACF5-4077-4ED9-8EF9-B2581FA7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82A7-9139-4A13-8193-ED647F42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3458-310D-4E2E-9B67-CE8A1985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5056-4DE1-42DD-B954-278FA7DB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7E32-82EC-4E30-923E-D04CCB77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B9CB-A61E-463A-9CFE-E495E058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EAFB-3BF9-43DC-A812-9DB494BB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8054-9686-4A52-89D1-A4A1306C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F656-7BFB-4FF7-AB98-E4B9E666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96C0-B2A9-4A24-A53C-16B69809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6E32-6BF3-4B33-880D-D972DC14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EAF2-E528-4186-BAA7-960CEA63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BC8E-76DE-4970-8D37-5C127E5E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D7B42-6AA0-4DCF-8C6A-2DF572A6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42926-2846-49EF-A5A3-51FA50BE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8F7AA-F2EC-4258-BD75-C092CC2C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E4610-47F0-42AB-94F3-8A61A09F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17766-67B6-49BD-90B6-95385AD1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78EF-A2F1-4317-8579-B004881E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CA423-C37D-4858-AC38-301BA9AB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A4290-9A07-4F31-BCE4-9ABA98C4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364AD-2637-40B1-B0F9-AFA6E299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8DB82-9D64-4D72-B244-62522D69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ED21C-7772-4295-9573-AE0566B0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9722A-987A-4830-9051-AA02DD4D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EE437-A3B9-4F3C-9E6F-666E97BD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11D28-9489-4E4C-8589-455F59D3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FEEFF-8508-4FA8-9E69-57C9B6AE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AEB7D-5C94-434A-BC81-BC9EB2B5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09EF-7335-4872-93AF-BFF2414F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C2800-3414-4FBA-8D28-277AEE8E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74D6D-E069-428F-8891-F0DC9A0F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F7AA2-03D6-4EAD-827D-A874DEC5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81733-4244-41BA-85F9-3403AD30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03FD9-C3C9-46AC-8A99-2E12421A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77F6D-120F-4FAE-9A04-0C9944D6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72CD0-6376-400F-ACAF-38CC6310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5D89F-3A7C-4079-B333-57F0B19E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6B275-6A8D-4FBA-A942-9D20F639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A22FF-467F-4D3C-A1AE-5DA2D3E9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27E-E207-441F-A7E2-A5674264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8A7E9-AAFB-4A05-8A49-533E473A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AE967-A754-4B28-987C-0AE9E2D0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E307C-3495-452F-B131-E8C7BD98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7B81A-68FA-4BE6-A2D7-07496A01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92823-345F-4A96-8710-5116FDDF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66D88-9B54-4ED1-9FC4-9F6C90D8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B1C63-7F0A-4A65-B8FA-12491EBA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3B7DC-D6FC-4AFF-8083-64F81B54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DE18A-9814-462C-AE0E-E3530F3B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3D60E-E1CE-4EAC-ADB6-1CC9DB0E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8C6E-CDD2-4EDD-BB4A-79CDB207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82CD6-4CD5-4C44-B525-E3CFB58B2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D013-2061-4C82-8143-5D48BE33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32E1-6098-4580-B8F6-ECC916E4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E34E-50F2-4693-BBFE-7FB27142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2ED1-6FDB-4BF7-A609-8BC8F1EB5D3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49FE-8DFA-4A0E-80FD-DABE2BF0FAE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8CB4-61B6-496B-9662-2BDA2CE9642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FCC2-5D06-422E-8AF7-8BF675606EA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EC7E-F0DF-4436-9FD0-B7FF6ED8791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Тема  Морские просторы\12538ee1109f5012f56798dece3w-derevo-korabl.jpg"/>
          <p:cNvPicPr/>
          <p:nvPr/>
        </p:nvPicPr>
        <p:blipFill>
          <a:blip r:embed="rId2"/>
          <a:stretch/>
        </p:blipFill>
        <p:spPr>
          <a:xfrm>
            <a:off x="3203640" y="2708280"/>
            <a:ext cx="5006880" cy="3900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79995\Desktop\изонить\Тема  Морские просторы\7dcc763d749d5a63775c0fecaffd8c74.jpg"/>
          <p:cNvPicPr/>
          <p:nvPr/>
        </p:nvPicPr>
        <p:blipFill>
          <a:blip r:embed="rId3"/>
          <a:stretch/>
        </p:blipFill>
        <p:spPr>
          <a:xfrm>
            <a:off x="395280" y="2637000"/>
            <a:ext cx="22320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C:\Users\79995\Desktop\изонить\Тема  Морские просторы\9dddefd664d642192a2a048932eb80a1.jpg"/>
          <p:cNvPicPr/>
          <p:nvPr/>
        </p:nvPicPr>
        <p:blipFill>
          <a:blip r:embed="rId1"/>
          <a:stretch/>
        </p:blipFill>
        <p:spPr>
          <a:xfrm>
            <a:off x="2195640" y="1131840"/>
            <a:ext cx="48276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изонить\Тема  Морские просторы\368823.jpg"/>
          <p:cNvPicPr/>
          <p:nvPr/>
        </p:nvPicPr>
        <p:blipFill>
          <a:blip r:embed="rId1"/>
          <a:stretch/>
        </p:blipFill>
        <p:spPr>
          <a:xfrm>
            <a:off x="755640" y="1197000"/>
            <a:ext cx="74754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79995\Desktop\изонить\Тема  Морские просторы\e88aa9edf47a1b434f674b817646d918.jpg"/>
          <p:cNvPicPr/>
          <p:nvPr/>
        </p:nvPicPr>
        <p:blipFill>
          <a:blip r:embed="rId1"/>
          <a:stretch/>
        </p:blipFill>
        <p:spPr>
          <a:xfrm>
            <a:off x="395280" y="1052640"/>
            <a:ext cx="4105440" cy="5472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79995\Desktop\изонить\Тема  Морские просторы\eeaac8ad44d80de26c0a8bb3d49f9304.jpg"/>
          <p:cNvPicPr/>
          <p:nvPr/>
        </p:nvPicPr>
        <p:blipFill>
          <a:blip r:embed="rId2"/>
          <a:stretch/>
        </p:blipFill>
        <p:spPr>
          <a:xfrm>
            <a:off x="4788000" y="1052640"/>
            <a:ext cx="41450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Users\79995\Desktop\изонить\Тема  Морские просторы\img5.jpg"/>
          <p:cNvPicPr/>
          <p:nvPr/>
        </p:nvPicPr>
        <p:blipFill>
          <a:blip r:embed="rId1"/>
          <a:stretch/>
        </p:blipFill>
        <p:spPr>
          <a:xfrm>
            <a:off x="1187280" y="1197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28T17:31:12Z</dcterms:modified>
  <cp:revision>35</cp:revision>
  <dc:subject/>
  <dc:title>ТВОРЧЕСКАЯ ДЕЯТЕЛЬНОСТЬ: ЗНАКОМСТВО С ТЕХНИКОЙ ИЗОНИТЬ</dc:title>
</cp:coreProperties>
</file>