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3F90-3BAD-406C-9576-BB88D22655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37BC-D8D5-4814-86DE-33F194DE24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016-A81E-4849-91FC-C1A4221A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6E3-9026-493D-98D9-78A17A7C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338-E9B4-481D-8FFB-8E2214C8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569-5256-461C-9FFA-A572750A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CD85-192A-4364-915E-9C9663AF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F0BD-010E-4E90-A010-A93BE9DB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B315-590B-430E-A824-7BBB4AFB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7E8E-93D0-4059-85F8-49BB49D8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472C-5A12-4AC3-902A-C0F1E70D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BCD0-418C-41AD-A2A1-9FCEE512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DF4B-58ED-40F1-B6FA-C1B15FC5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16F-C71F-46FC-BC37-7138B6C8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1BF2-EDC0-436C-A1F8-C71CAE31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05ED-F0EE-463B-826C-AB03B811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69D2-AA9D-4A03-AA26-9115A9A6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7F28-E9EA-4EE0-A733-4C8AD82B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FCBF-1522-41B5-BEDB-208DBF1E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C5D96-6E38-4514-85AD-1DCAED1D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0B5B7-94A8-4EC2-AD4A-6FFA7577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E3ECA-87FF-4E03-891B-78CA722F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B7F36-3060-4598-ABD7-3FBE274A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755F5-D244-4754-B053-FAB63AC4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AFF-96C7-4589-890E-698C9E47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26924-4499-4F59-BEA7-23EBA8B6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C7859-36C5-4403-AAC0-75AA0E25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E2B19-7E48-4545-8450-407FAEEB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87DF3-1B0B-4933-A804-DA04335A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33D27-F4C0-4E26-826F-EB6A3DDF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50CC3-09FB-470F-B531-606F83D7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1E0A8-2190-4230-A07F-E0035F2A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C9C20-2FA2-404B-8EE0-0435B6C6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FDC65-DDDB-4015-8E52-A428BEAB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B8A68-33DA-4141-9D8A-21E92339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FC2-476D-4D9A-8723-CDF703E3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C2082-AD03-4417-93D8-2521B043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A805C-DBEA-4F49-A379-59F568EE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0ED25-DC23-4058-A04F-D81E1CCB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20E93-34E6-422D-84F8-656F6724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8DA59-0CA4-4451-89DE-7D52BBE4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9C32-88ED-4AE2-B690-8BDBB432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685EA-C3AC-40E4-98B6-0C5E1299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6110E-59F1-4247-B719-35B11195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37C64-ECF4-4F3C-94CE-E7741291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309F6-5C23-40AE-9442-11E5F3EE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83B-9374-4080-AC94-3E582A05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CD9B3-DF3C-4CBF-9B24-FEB612CD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CBBDE-2C7B-474E-8826-A8C1563C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1F11D-0F23-4BFE-AB09-D11AE2DE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3815E-D9F2-48F7-BEC1-C9320ACE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A9D61-8416-469F-AC8A-EA326B50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BE0C3-7191-40C5-B63B-E9343C8E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1809E-F473-4031-A101-D7CB976C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9C0F7-4A3C-47B8-A8EC-7DC74B62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5DA80-DA0C-4B82-90A3-D44C3059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74919-A66A-4F87-B0E0-8CAED5FE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A24-A0F5-480D-838A-D815A65B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63664-3E2E-4C94-A251-37E8B1D1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57A-4537-401E-893C-6870984E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990-3D1D-4D68-8F38-72D76030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F9B-A26B-4A9D-A447-CE22AD5E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77E5-795E-4B25-9532-1488B3E7AD2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9F1C-198F-44A7-B57C-232A5666F42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75B5-ACA7-467C-BFB1-9C03D06E3D5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30F3-61F7-4D49-BADE-7B6F19DD562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A828-5907-47AE-8C96-68895E20086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 2\U15_06-07a09.jpg"/>
          <p:cNvPicPr/>
          <p:nvPr/>
        </p:nvPicPr>
        <p:blipFill>
          <a:blip r:embed="rId1"/>
          <a:stretch/>
        </p:blipFill>
        <p:spPr>
          <a:xfrm>
            <a:off x="1332000" y="1000080"/>
            <a:ext cx="6286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5T11:30:34Z</dcterms:modified>
  <cp:revision>36</cp:revision>
  <dc:subject/>
  <dc:title>ТВОРЧЕСКАЯ ДЕЯТЕЛЬНОСТЬ: ЗНАКОМСТВО С ТЕХНИКОЙ ИЗОНИТЬ</dc:title>
</cp:coreProperties>
</file>