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173E-8E55-4809-AD34-761E0F496D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5D80-CA32-486E-B8B0-B10E061D12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40F-1834-4FC4-B3FB-80CD81EE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D9A-9540-44DB-BCEA-3A86643F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F5B-03CE-44BF-A8EC-60984A27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7DF-3555-4C4D-A6BB-9EBF75CF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16F6-6E67-4A72-A0E0-04E53B4D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2B1C-CB87-4010-B1D8-13C058CE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E223-3052-4B49-9EE3-D3A8CFFC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DE43-8319-4EA2-A294-465E56D0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3294-E5FC-4A23-BE02-E14FFB85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7A93-DA9E-4D0C-A786-2997225E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57C4-CC93-4DE3-B88B-478868FD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901-5D7C-46B4-A5CB-E8DCF208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53E5-63CE-4AB3-9994-7207877B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9FAA-F21E-41CE-832C-9BDC5FCF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7074-C138-471D-B456-0BCB72C0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0F5A-973D-48C5-8849-E71D05CE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0362-0CCF-480A-BFFE-E2E9B6C1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92179-CF95-459C-A1EC-4A6E4497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32E7-15ED-4C85-A911-ED9110BB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FCD30-5964-48B8-AC33-4C94393A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15149-0918-4D84-9608-AF5B3E24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6ABFB-F2BD-4E94-A530-50FBC63B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043-A478-4293-8FF5-AF346B5F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968E-DC88-45F5-AD75-F35FDD26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E8F1-F9E9-4FC4-90C6-D35CEB6F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02E3C-6001-4597-AD1C-82159820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73163-780B-46F3-8C9F-DD3A4099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2ED7-2FFA-423E-9249-9A6D4E02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59D29-99EB-40BF-87FE-1B45C4B4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EA86E-4F01-46A1-9693-797C8754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D6B05-6657-440B-BA1B-AF89426F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0783F-5A90-4BB4-ACBC-B1C653DF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E10F7-5448-452C-80D7-4108515A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2D7-FB56-47EF-AB2E-84EF696E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5C414-A758-44A9-A6DA-E1CE293B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620B8-ABC9-4B2E-8AEE-C31DD435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4C396-958D-4A34-BD7C-9E6D8733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80DDE-C243-4801-A047-DA81494C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3A8BD-C154-4257-9356-D32AE67B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0268A-188A-443A-A03D-AEE36DCF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427BC-1928-4304-86DD-C3F68C9F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81121-DBEB-4A18-B5FA-0CAE8ABB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73AAF-9787-4CF4-86BD-B0316962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2E044-F66E-4673-BA3D-6843BCA0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608-2E91-4A85-8086-6597773A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57989-42F1-415A-90A2-5D14ABD0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11A2F-EBC6-43BC-9627-79F5F604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8D4A7-63ED-413A-AD62-DAA0E01B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11CCE-F220-46BB-9F0E-7EA5D1DE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CDF36-47C2-4364-9197-33FA636D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6122B-BB5A-4DC4-BA62-7FE73180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D8C7B-882B-40EA-B958-951FBFBF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1319F-32E0-4418-88EA-4E118940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5F7C1-1DCE-4CE6-911B-57DD6E13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1D2DE-6132-431C-A266-B7F9809A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0598-A473-4435-9A32-7DF23D6C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5DFFE-EFBD-4901-A14B-151D0B25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841-EE26-4EF2-9894-B58CD1F3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960-DE96-4D04-AB89-5504E7D2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8ED-8F86-4424-AB7D-2C202F44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0ED1-0F56-478D-9B3F-0EA7B774CF0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CD07-121E-46E6-AFF5-4BC4947D035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2523-B1B6-4679-B7F5-4861B2E8601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4649-4ED0-422B-AD71-D9774302542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2D91-46E6-43D7-8854-A46BEA48668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 2\U15_06-07a09.jpg"/>
          <p:cNvPicPr/>
          <p:nvPr/>
        </p:nvPicPr>
        <p:blipFill>
          <a:blip r:embed="rId1"/>
          <a:stretch/>
        </p:blipFill>
        <p:spPr>
          <a:xfrm>
            <a:off x="1332000" y="1000080"/>
            <a:ext cx="6286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5T11:30:34Z</dcterms:modified>
  <cp:revision>36</cp:revision>
  <dc:subject/>
  <dc:title>ТВОРЧЕСКАЯ ДЕЯТЕЛЬНОСТЬ: ЗНАКОМСТВО С ТЕХНИКОЙ ИЗОНИТЬ</dc:title>
</cp:coreProperties>
</file>