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856-C7CA-42C2-8284-C168FD13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CEAA-3826-4165-B212-611F1FD8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8F1-45DC-4624-8252-85E7ACF0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DDD-D27D-490C-AC71-FBD3AC47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8F4-BAFF-4034-BD02-B344E736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97F1-BE2B-47A2-B8CA-E85403B7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71E-6476-4042-B29F-366FF6B5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A0D4-FA4F-4296-888E-80197B70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4AA-0E30-4937-855F-C110D3C5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F351-97AE-40FD-9843-634B0ABD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80A-26FB-46A0-921B-F50227A9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385D-E3BA-4F45-A6B5-349D88FB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6411-2882-49DF-A7B1-2BA2686CD7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828720" y="171360"/>
            <a:ext cx="7772400" cy="25718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2357280" y="2459160"/>
            <a:ext cx="4429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://festival.1september.ru/articles/519398/img1.jpg"/>
          <p:cNvPicPr/>
          <p:nvPr/>
        </p:nvPicPr>
        <p:blipFill>
          <a:blip r:embed="rId2"/>
          <a:stretch/>
        </p:blipFill>
        <p:spPr>
          <a:xfrm>
            <a:off x="2828880" y="2835360"/>
            <a:ext cx="3816360" cy="402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Деление окружности на 2  </a:t>
            </a:r>
            <a:br>
              <a:rPr sz="4400"/>
            </a:b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    равные ча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разделить круг на две одинаковые части достаточно провести диаметр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611280" y="3179880"/>
            <a:ext cx="1584360" cy="1728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2998800" y="3179880"/>
            <a:ext cx="1501920" cy="1728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9"/>
          <p:cNvSpPr/>
          <p:nvPr/>
        </p:nvSpPr>
        <p:spPr>
          <a:xfrm>
            <a:off x="2998800" y="4043520"/>
            <a:ext cx="15019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4" descr="сканирование0001.jpg"/>
          <p:cNvPicPr/>
          <p:nvPr/>
        </p:nvPicPr>
        <p:blipFill>
          <a:blip r:embed="rId2"/>
          <a:stretch/>
        </p:blipFill>
        <p:spPr>
          <a:xfrm>
            <a:off x="2120760" y="2206800"/>
            <a:ext cx="4035600" cy="3743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714240" y="1428840"/>
            <a:ext cx="79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сти с помощью чертежного угольника два диаметра с прямым углом (занятие за 17-18 ноября) отметить на окружности  точки 1. 2. 3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готовление ребристого ш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3413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 рисунок готового ребристого шара. Какие фигуры ипользованы для его изготовления? (круг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Начерти на листе цветной бумаги 4 круга радиусом 3 см и проведи в каждом диаметр. Все линии проводим на белой стороне лис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ырежи круги. Вырезая помни ,что: линии должны оставаться на вырезаемых деталях; бумагу следует поворачивать по часовой стрелк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аждый полукруг назови буквой как показано на рисунк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6" descr=""/>
          <p:cNvPicPr/>
          <p:nvPr/>
        </p:nvPicPr>
        <p:blipFill>
          <a:blip r:embed="rId1"/>
          <a:stretch/>
        </p:blipFill>
        <p:spPr>
          <a:xfrm>
            <a:off x="189000" y="5084640"/>
            <a:ext cx="7851600" cy="177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Каждый круг перегни по диаметр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Полукруги сложи одинаковыми буквами друг к другу и склей их .При этом не забудь вклеить нить, чтобы шар можно было повеси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Если тоже самое сделать с бОльшим количеством кругов,то шар будет смотреться пышне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46200" y="4221000"/>
            <a:ext cx="7851600" cy="188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0:28:22Z</dcterms:created>
  <dc:creator>Admin</dc:creator>
  <dc:description/>
  <dc:language>en-US</dc:language>
  <cp:lastModifiedBy>Учитель</cp:lastModifiedBy>
  <dcterms:modified xsi:type="dcterms:W3CDTF">2020-12-09T09:07:40Z</dcterms:modified>
  <cp:revision>34</cp:revision>
  <dc:subject/>
  <dc:title>Деление окружности</dc:title>
</cp:coreProperties>
</file>