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AEC4-6D51-4DE7-B508-0A11B1B284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965E-0E81-4685-9C86-3FD4507F0B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B78-3021-42B5-8092-A48DBFC8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C2A0-9B86-4A16-9983-C387B8DD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F63-8E8C-440F-86B3-675AFE52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03D-3706-4175-A153-C2ED9D68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C0DF-ACCD-4645-99D1-8D758A7E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1628-E061-43E7-82CD-6279DE42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E615-0D2B-4515-8F42-40554DCF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38CC-8E09-4ABE-B25B-D6744ED3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7EAE-2D4B-4FEE-8746-29CABE21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9A6C-9274-4F07-8F74-8C583615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7EDD-DD05-4208-96E4-8874C5C5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220-AFF0-46FA-B587-98665DDA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4F71-1DE9-4E4E-A941-FA375C00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E351-ADFB-4564-8838-DD259FE7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97EA-8C03-4D37-BA75-8150FCAE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9C51-4E90-4D01-BFF9-92CB7B6E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F392-A5AC-47AB-A0E8-0291F199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FF09-1F4B-438D-AA5D-0A7C3E14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BD01-A387-4C90-9FE1-98AD0B0C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2B5E4-7EF8-4DE6-B082-FB5FBDD8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2AEB0-E4B5-44A0-9551-13054E02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2AD79-C8BA-4490-B0FB-07597738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55A-91C6-49DD-B002-159F38E0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66ADA-BEFD-4A64-B24C-81B380A6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2BADB-1B15-4D84-965B-44D5B0B4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6C64-FA9E-4DD4-8941-520E5400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50374-AE45-4F0B-BE30-4BD4B9F7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8CAA-BA18-48C9-8E04-6CF3D9B0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8794-AD56-4257-8FC8-F875A070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0E75-033C-4466-9185-5679987D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4DAB9-CB19-4E05-A810-5BEE4F98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FB936-22CB-46C0-9C99-09EC512C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46725-A444-4175-9965-2DB89134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872-9856-4C7F-BB77-55AC94CF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0AC6E-293E-4AC0-BB53-003B29D7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35409-E167-4C04-BBE1-2A561B37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319F0-2B60-473F-A647-AB50028B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2CD00-8D07-4333-AAF0-E70289E3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D337C-9930-43C1-B791-069713D7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CAB1F-9F95-4286-BE90-5556C310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5867E-6814-40C2-AAE8-F1208653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A43B9-272C-4A9D-961D-A7FF21D8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E4887-7C4A-463D-B33A-BADE9816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8AD50-1EE2-4D40-9A3A-904B6D11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6C2-92B2-4F27-8AB9-B6AEE372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F6937-AB73-4435-B51A-1A51A204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5DA1C-BB60-4C3F-B909-9E93180C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37DA0-FC76-4761-9FFD-3C86A8E3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C1E5E-51EA-45A2-BD68-86FFFBD9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AD9BC-CB93-4426-A8F0-0369F3E1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7D8E8-659F-4956-9164-24849593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784F5-09CC-4E42-AE48-842AFA34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E4FFA-B261-415A-9808-744A347C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1CD02-7AC6-442D-A3CA-8D559FAE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9162A-AAAE-4785-BFB6-BF54572C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D2B-2C08-43A7-9A49-B36698A0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C0573-186D-4519-9DE2-B2CBD1CB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D92-62F6-458F-AE3E-C4E66F03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093-5875-4421-ACBE-3716EF83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800-20D7-4268-9641-90EF6E5F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FC3E-1365-4C02-B940-F26ADECE628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F826-D06A-4C0D-B745-3EFE65633FF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CCD7-D57D-4193-9CBA-30A7957B676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5BDD-17FC-4727-9C91-34F5B53E3C7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D0B2-AA91-4AB4-BE91-6CD5DF608BC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\339820_79_i_094.png"/>
          <p:cNvPicPr/>
          <p:nvPr/>
        </p:nvPicPr>
        <p:blipFill>
          <a:blip r:embed="rId1"/>
          <a:stretch/>
        </p:blipFill>
        <p:spPr>
          <a:xfrm>
            <a:off x="971640" y="1336680"/>
            <a:ext cx="75610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0:01Z</dcterms:modified>
  <cp:revision>37</cp:revision>
  <dc:subject/>
  <dc:title>ТВОРЧЕСКАЯ ДЕЯТЕЛЬНОСТЬ: ЗНАКОМСТВО С ТЕХНИКОЙ ИЗОНИТЬ</dc:title>
</cp:coreProperties>
</file>