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8035-BFDE-4582-BBC8-625CBB32CC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D6C1-B944-4E62-9580-A587FE8E71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D784-3523-408C-B96E-81DC6240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842-949C-4E8C-9D5F-EC19FFBD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E200-7EA2-425D-BFFC-EDA8EFBF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58E-A018-466D-A224-F55ACB97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8FA3-54F2-488D-8632-EE5583FB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DD9E-B29C-4A8A-94ED-1F08AC2A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5FDF-B62C-4051-B3E9-623A2F08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0214-A848-4643-9F19-AFA14587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1DB6-627F-421E-B619-662AF2B2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6076-57F8-44C1-8794-9910D667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8493-7A15-4248-9DA5-1FFEE047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36CF-15D0-4EAA-ADEA-D114C7C2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89FC-CC85-45F7-B61E-DC7F1803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3050-F082-443B-8264-722DBE05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7DB7-98C7-4B23-93EE-743786EB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A3EB-8B0E-4310-B4F9-023A97E0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91E2-A7E2-4153-8AA1-C2EA7A80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7950D-180F-4DF9-9943-8CFB1557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1A680-F789-4CD8-9224-AE636097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5208A-6D66-4A23-BEC3-62117B88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C781D-7F89-4451-BBD7-830C7909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9ED1E-CFB7-436C-BB02-8CD0626B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1B98-09F6-424C-B831-D662E532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547D5-15AF-4A2F-B95B-469273DA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BF98B-7EEA-4C7F-B022-28A561B1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AC9EC-FD20-4F4F-953A-C3F1444C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BD86C-07A4-4C3E-BE5A-987EFD47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9C371-8D07-4FF9-9897-C374C939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7E0A0-8237-4498-832C-332E98E4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BFB35-1652-40A6-8B3F-855390D7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20A0C-C73C-42F2-8581-249609AB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5BE63-169A-4A34-8A0E-CE87E186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22A32-DA2E-4B8B-833B-033012EF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E9E7-58F7-46C3-8526-920C4FAD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B82EF-D793-4CB9-8782-DDE55102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5608B-1FF3-4BC7-9F12-206D2A46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38E71-82A1-4654-98DF-88CC9078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30510-8C3C-428C-9A05-441DBFBE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7A29D-F53F-4780-9F57-3F3DDD19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FC8F3-72F5-45ED-9187-3128B9FC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02A92-F3CD-4A6B-BC90-EF14E7D8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924F4-BCD8-4C6E-90BF-5E3BAE23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C02A1-B344-4FB4-9841-C8636322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68E33-8022-4173-8932-15D11716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972-E543-4EF6-BF7F-F4B56661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0140B-8B05-4F79-BA8C-720018A4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C57A1-4F9E-42E2-9944-21E05A00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7CEC8-5FEB-41F4-986E-6A610C2D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8316F-5123-4FAD-9951-1F15BE51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189F3-5E0C-4D17-8AC7-C57A8250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71A6D-F538-4A21-BB4D-A9092546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1D6ED-A19F-484B-8568-183EAE08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9086F-22B5-4C25-BBAE-801CE4E7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2A5DE-1097-4E0B-AB80-BB26AAA4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8391F-E8CD-4B2D-90BD-C84DB28F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C1B-649E-4B51-AE81-A79865ED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F8313-8D51-4574-9FE2-8CFFE23E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87E-BE2B-4E79-BBF0-6975B5C2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808-3B9C-435D-A21A-98C16512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6AA-1AEC-4DA7-B668-8ECC6161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7994-2367-48FB-9293-2CD1717F6CD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EFF8-E9CF-4899-90C5-40373E749AA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BDB1-3BF3-4809-8E59-65D4E217A2F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B198-3F18-42B5-822C-4FE354900EF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8A25-18ED-4F66-B7FF-521469A2345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\339820_79_i_094.png"/>
          <p:cNvPicPr/>
          <p:nvPr/>
        </p:nvPicPr>
        <p:blipFill>
          <a:blip r:embed="rId1"/>
          <a:stretch/>
        </p:blipFill>
        <p:spPr>
          <a:xfrm>
            <a:off x="971640" y="1336680"/>
            <a:ext cx="75610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0:01Z</dcterms:modified>
  <cp:revision>37</cp:revision>
  <dc:subject/>
  <dc:title>ТВОРЧЕСКАЯ ДЕЯТЕЛЬНОСТЬ: ЗНАКОМСТВО С ТЕХНИКОЙ ИЗОНИТЬ</dc:title>
</cp:coreProperties>
</file>