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57F8-23ED-4EA9-84F5-4DF80CFA86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8BE5-BF42-4451-95CA-B8DA143765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BFE-B499-4A7A-83BA-57A63DD0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4DD-F892-4E16-83FE-D4B9A3C9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E9C-AF23-446D-BC6C-7F7B5E8F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FBA-0863-4A83-8C39-5836EDC1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F3DB-B563-4AEE-8400-C53F5C1A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D4E8-AD52-4B6D-9989-D4BB4642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54C1-5E77-41A2-AFCD-635BA4F9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564E-D36D-4AFA-9BFD-A77942A9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88F1-A506-48A0-9BCE-B648E3B8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ECA3-78B2-4122-953B-1490740B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C0FD-D5EA-430A-B20B-FAB1FDE6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556-57AB-4A45-8038-82689CE9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B52E-2A23-4D3B-B050-7FBE6AA1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DFCC-CEA3-45BD-BFF0-FB51DD7D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C7D5-32C2-49BE-8387-BFBAE9BC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6684-AC09-437B-98AC-8A0CABEC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BE1A-51ED-4D4F-82D2-E03249C8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87D9-65FA-40B7-87FA-0C64FCA9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23E4-27F0-4FA2-9DB9-5EC8D84B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D31A3-5498-4367-BE7A-82C879A2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93D4E-02F8-4F4D-B75D-1D7A5613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7FAF8-0358-491A-BC84-2BE4B9C2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B05-78B4-4F2B-9BD0-21D1B33F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1E40-1335-46CE-B01F-65A84591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19506-C00E-4BC1-8161-593633ED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7B48B-ED4D-459E-AC6C-07C52E47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A90C9-7E08-4505-99C6-12BE50D3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4B85D-9227-4F29-9278-B8454598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61548-D628-4143-BF51-E2FD30D5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57DFC-4948-4535-9597-DDC24F87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FDFE5-0A36-427D-B9C8-606C9095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FD255-A018-49AA-A49A-9939B354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1F1AF-F090-4075-B62F-FE3F36D2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0CAB-3A88-4466-A0E2-0CF0010A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0672-E213-48D6-ACAA-D0D67A8A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9DBB2-A8FE-466C-A194-D5EBD5A9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A0A82-1FD9-447B-BDE1-DC4F6BBC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91795-310D-4920-9254-35A4C008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2CBD5-878E-44C6-ABB4-C29CA7F7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073C8-A820-467D-A24C-A303E5C6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CAA83-77F5-47C0-AE07-A4EF8A61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FBD6C-643B-4FE7-BB8B-9173BA29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61163-2E66-4794-9088-B05C9DC2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3B308-9634-4589-A400-98F8553F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9BD-0356-4E00-A300-56905033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C7452-9275-48C1-B425-BE6191C2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AC88F-2821-4BE6-81BA-B85D3DF4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3CE05-C6C1-4538-AD9B-DFBC4A29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F9338-80DA-4391-ACC6-7156E6D1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C61C4-068C-4C0E-9B60-0C30586C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7759A-0179-4749-9CFD-DAEFDE73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9E7A5-3F06-4E6E-A93B-25F1A2FF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9C160-1D52-446E-B33E-8B33FFE3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FEA5A-1281-413B-B7F5-D8AAC116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8BB60-3864-4778-BB74-B641B655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F42-8EB1-4FE5-9930-5CDA6F1A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F0B49-98DF-4BA8-B62C-6ED13F4C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234-1045-4EED-87B0-64991F15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B28-B340-4FF7-8FC3-02481585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104C-7C32-4C98-8797-5CD21F18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DE7F-8F8A-4E62-BF2F-36C0CF805E9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52BD-7AB3-4409-9A7B-3B6EDB73EC5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E635-4978-4FAC-BF81-9C22909B056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B26A-51FC-4048-881F-091127706AC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7F4B-1EE2-48F9-A0E9-09024A4484E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\339820_79_i_094.png"/>
          <p:cNvPicPr/>
          <p:nvPr/>
        </p:nvPicPr>
        <p:blipFill>
          <a:blip r:embed="rId1"/>
          <a:stretch/>
        </p:blipFill>
        <p:spPr>
          <a:xfrm>
            <a:off x="971640" y="1336680"/>
            <a:ext cx="75610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0:01Z</dcterms:modified>
  <cp:revision>37</cp:revision>
  <dc:subject/>
  <dc:title>ТВОРЧЕСКАЯ ДЕЯТЕЛЬНОСТЬ: ЗНАКОМСТВО С ТЕХНИКОЙ ИЗОНИТЬ</dc:title>
</cp:coreProperties>
</file>