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E1A2-A5B9-40BE-8435-BB2E9D848B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5494-9E3B-4AC4-90CE-CBF64CB7AC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0D8-B8CF-449A-A6F8-25CFEDAD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3F0-F22B-4FC2-8C02-2296AB68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852-8DF5-4CA6-8053-52A5A4F6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FE4-593C-4741-8060-15DFE163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FD5E-CED7-4654-88C1-18BA9835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E203-E28C-4110-BA9B-92B2C50E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4024-077A-4254-BD4A-2F7D1F8B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7079-5E56-4D76-9AD0-3AA65A85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84F2-408A-49B9-B5CB-1D0059F8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DCBF-1698-4034-BE47-CCE61E31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FA10-391C-46CC-9855-CFF37B24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D20-62E8-4A4E-9B91-403CB91A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1D2E-404C-4B9C-A957-D3B87DB6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79E7-10BC-4CAC-A1FF-B23D5AB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B952-2775-4757-809C-8742FC2C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187B-E3AA-4831-B353-D3854E08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623A-4E3D-4F81-9971-63FB2560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61EBC-9EBB-4F6C-82B4-F9DD303F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D1C7-D0B9-4E59-9F31-1DA809E6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2EC1-BBCA-4158-B7A5-4F3F408E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3AD4E-C7EA-4314-BD9F-4F68A625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B15B-730C-4C05-A707-24B3FBC7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BE6-5D11-4127-B95D-E22469A1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5A2B-0B05-477F-9619-43997E26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F0ED-2A87-463A-93A6-85C45058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8CC7-BF46-4D59-A57A-592EDE98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5354-69CE-4393-B072-C7C386E2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E796-50BC-4F60-85D8-B04C1F71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B6D8-634C-4FF9-A303-7F02A5B1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35DD-2131-4219-89D2-63FD1E47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F8CD8-82F3-4821-B033-E139D663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FC9AD-ECFB-4BF1-93B4-1DA0F3A7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055AA-FE37-45D7-9CA7-F50648EE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6C5-F6D5-41D9-9E32-4551BE5F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FD293-FBF1-4977-9812-7798AB52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A9927-3E79-490E-B496-653038D8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153A-EEC7-439D-8AEA-3BEB6582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EB38-111C-4B56-8F47-A68B6D13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332D-B508-4B1E-AA76-14F4F2E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80C3D-258A-4A97-A84C-07F99B4A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81474-9C26-490F-9049-F7690E05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8FE69-2001-45BB-9300-25B4D2E1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04C99-410D-41D1-A3C2-F8E99F44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9A259-D706-4513-B9CF-99C82C76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1E8-76FE-4DF3-9B66-6CE9D312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CA91F-6273-4DF4-9223-DBAEBCE1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C7793-B681-4474-974E-884EE1AA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DDBFF-C702-40FD-BCAE-B1DE77E2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1898-B1AA-4414-A787-C47BC00E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380AF-E060-49E1-9861-1B9A65D0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56EFD-B2A0-4ACD-BED7-65D5EDA3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0A3D6-D147-44E0-AAD4-C075A72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F52E1-751B-4ECA-9920-CA0DB809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9119-A633-4731-9AE5-CC05BFDD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CEC5E-1A79-4851-B505-875C4D00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698-BDF3-4BBF-97CB-DB8C9A61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7F1D-3904-402D-AB01-87A07D09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00A-B647-4BCE-8007-9CE5B2EF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4AD-87A0-4E63-8999-91746668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636-2F1D-477A-99B3-C0126E7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857E-B521-42AD-A964-290F55403F9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42A3-9974-47D8-AEF3-BB9CC03C1DA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A907-CF7E-4B0A-A70C-D13034D4E87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8DAE-5BAE-45D4-8DC0-C3D7A1ED033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A484-FA9F-40C4-9D19-E1ADC6673C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\339820_79_i_094.png"/>
          <p:cNvPicPr/>
          <p:nvPr/>
        </p:nvPicPr>
        <p:blipFill>
          <a:blip r:embed="rId1"/>
          <a:stretch/>
        </p:blipFill>
        <p:spPr>
          <a:xfrm>
            <a:off x="971640" y="1336680"/>
            <a:ext cx="7561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0:01Z</dcterms:modified>
  <cp:revision>37</cp:revision>
  <dc:subject/>
  <dc:title>ТВОРЧЕСКАЯ ДЕЯТЕЛЬНОСТЬ: ЗНАКОМСТВО С ТЕХНИКОЙ ИЗОНИТЬ</dc:title>
</cp:coreProperties>
</file>