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01C6-39DE-43BD-A339-F2AB361931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07A3-E942-43A6-856E-5C620B7921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BA52-201E-4D8D-AF40-1434293A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2105-6DEF-4552-9301-6DE9F37E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5E7-AE85-49C1-9B7D-51B6B785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D423-9165-4F53-AF46-260DA576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01C6-6618-48AD-A746-B3D1D130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E58A-4074-47A2-8678-4DE11F3C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C984-4C87-43A5-A2CF-7FD3D2F4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AA4F-1C4C-484E-AC4E-2C8E6B5D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6845-2778-4C0C-BD37-8E89DE48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BAD5-7B5A-4BCB-BBA0-ACC1DFED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972C-16CE-43C0-B33F-8074F515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F9CA-77C6-448B-BCFD-7CF1689E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14A6-AAAD-43DE-AE8C-E4EECC72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7CD9-A0BC-420B-AAE1-CEBDA9F8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F39F-F041-4EB8-8D58-B53BC5EB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F071-EDA0-4F8F-ACBB-524B19B8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D4AD-66C2-4E73-910C-FE2426F4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FC116-5CF5-405E-9B3A-ED1E1B2E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4457C-959F-489E-BE95-7A07362D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72A23-5969-47E6-847D-AF89544F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E2B64-7662-47E1-A14C-3619A2BF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5EEEC-9AA3-487B-8606-A2D8E083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6C32-BADD-47C6-BD87-8E8BDC56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2B868-A01E-470F-9943-4A690E67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76CF1-0A1B-4ADF-B643-28909063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E66AD-3E07-42AC-8FA4-0B76B59F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C9AD4-9B51-4684-A99C-C76DE1D3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D0F7B-094B-4D18-8F47-8C1FB9B4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339C4-8378-422E-84B2-17906D33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1096C-D335-4F95-A6EA-D7B360EA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B5EA0-FE2E-45DC-A114-D696747D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D3B82-029A-48B6-9FD0-A7DD08B6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C860A-5037-45B4-AB0F-FC37DC90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B525-77EB-4975-A5C4-4B0CDDE8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B7AA5-9DAB-47A0-9D77-12430BC9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C905A-02E5-4472-93AA-1302562C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78101-AFE2-4E08-9766-76EDCE3E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7F026-28CB-43D9-BB83-5691D3CB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AEE0B-93FC-4596-BB05-A75E46C9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CEFEC-F9F5-473A-BC7F-E8FCE035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35D07-3CF0-44F8-BD4B-C1A7FB7D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228B7-4E40-4E78-BCF3-5EF8E4D0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4FA3C-4092-496C-8798-B5364AF2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ACC5B-9D00-4E01-8382-8A6D652F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B1A1-6D20-4AFC-AD6B-57C31678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34342-2EB0-4E55-801A-80AA9D67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1E9AC-8F51-4139-8823-71560BB5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D7671-2465-4AB9-94D5-9BCABD38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3412C-8972-4A03-A0BA-498A2E55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3D8BC-2823-4F51-8FED-54818FE8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5E388-F349-4C3B-B703-961244D7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2B99E-0C13-4A26-BAC0-2CF4D434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005A4-C685-49AA-A64E-F1E6F847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1FEB2-FD64-4A42-9FF9-28B0779E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7D64F-A9BF-4420-84B7-5254B42A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D561-A48E-4A5A-A0F0-CE86EB99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B2EC6-8A90-4424-A39D-2B624E0F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9F1A-E43F-4818-A806-A95521F9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512-15FC-4CE1-B618-EF05F4B9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2A0C-45DA-43F8-BAE4-0E7E7D81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0D70-11D7-47AF-9D4A-786C3F56F72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D152-6AA1-4150-A99A-A2B0EE03C46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F92E-6AC6-4E63-B1E0-F72658505C2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AD66-12ED-4681-AE94-BFC893FC793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DBED-44B5-4852-9646-7E31962CF1E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Ёжик на полянке\103790211_large_79695346_large_ezhik_2.jpg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516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Users\79995\Desktop\Ёжик на полянке\79695358_yozhik_1.jpg"/>
          <p:cNvPicPr/>
          <p:nvPr/>
        </p:nvPicPr>
        <p:blipFill>
          <a:blip r:embed="rId3"/>
          <a:stretch/>
        </p:blipFill>
        <p:spPr>
          <a:xfrm>
            <a:off x="4788000" y="1484280"/>
            <a:ext cx="4113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Ёжик на полянке\79695346_ezhik_2.jpg"/>
          <p:cNvPicPr/>
          <p:nvPr/>
        </p:nvPicPr>
        <p:blipFill>
          <a:blip r:embed="rId1"/>
          <a:stretch/>
        </p:blipFill>
        <p:spPr>
          <a:xfrm>
            <a:off x="324000" y="1413000"/>
            <a:ext cx="4030560" cy="50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79995\Desktop\Ёжик на полянке\79695356_yozhik2a.jpg"/>
          <p:cNvPicPr/>
          <p:nvPr/>
        </p:nvPicPr>
        <p:blipFill>
          <a:blip r:embed="rId2"/>
          <a:stretch/>
        </p:blipFill>
        <p:spPr>
          <a:xfrm>
            <a:off x="457200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Users\79995\Desktop\Ёжик на полянке\79695358_yozhik_1.jpg"/>
          <p:cNvPicPr/>
          <p:nvPr/>
        </p:nvPicPr>
        <p:blipFill>
          <a:blip r:embed="rId1"/>
          <a:stretch/>
        </p:blipFill>
        <p:spPr>
          <a:xfrm>
            <a:off x="250920" y="1397160"/>
            <a:ext cx="4392360" cy="5460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C:\Users\79995\Desktop\Ёжик на полянке\101312675_5177462_yozhik_1a.jpg"/>
          <p:cNvPicPr/>
          <p:nvPr/>
        </p:nvPicPr>
        <p:blipFill>
          <a:blip r:embed="rId2"/>
          <a:stretch/>
        </p:blipFill>
        <p:spPr>
          <a:xfrm>
            <a:off x="4716360" y="1096920"/>
            <a:ext cx="4103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C:\Users\79995\Desktop\Ёжик на полянке\339820_79_i_094.png"/>
          <p:cNvPicPr/>
          <p:nvPr/>
        </p:nvPicPr>
        <p:blipFill>
          <a:blip r:embed="rId1"/>
          <a:stretch/>
        </p:blipFill>
        <p:spPr>
          <a:xfrm>
            <a:off x="971640" y="1336680"/>
            <a:ext cx="75610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6T12:30:01Z</dcterms:modified>
  <cp:revision>37</cp:revision>
  <dc:subject/>
  <dc:title>ТВОРЧЕСКАЯ ДЕЯТЕЛЬНОСТЬ: ЗНАКОМСТВО С ТЕХНИКОЙ ИЗОНИТЬ</dc:title>
</cp:coreProperties>
</file>