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A4EF-781C-463D-A239-6DF3FBED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75F-9298-4F90-B760-39218672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A3A09-7642-4E35-86CB-740AF0FE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33712-AF07-4A40-B1A7-EDD711A4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FE1A1-D8D2-4747-9DE5-1CF93621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D10A97-2E57-49DF-B3A3-DEB5A7B4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B3B8E-277C-476D-946C-ABD21637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77FFCE-56D7-44F6-B03C-18784CA5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A2191-7BE0-45C5-9CDA-EAA779F4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111F4A-97E2-4964-89A5-3AFEE480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FC2C7-0C0F-452F-96F1-DC55D724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B05BF-CFAE-4C96-9E4B-323A8DB4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ED43-06AD-4B00-984B-F2645A5E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3216E-FD3D-4FA4-8449-4705C70F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8E551-9D74-44C9-AF1C-4FF86A34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FE504-12AC-4D11-AF6F-F85C2831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9FA496-382D-433A-B7D8-3F4D090E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D818FA-606E-4E06-88B0-FCA1E17F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CDD5BE-FC9D-4980-9025-8E27EB5D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EEA144-D807-4951-A7A7-20B13DF0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3F1C8-51AE-4D93-90E0-BA51539E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2D67E8-F889-4C12-96F8-44ABBE09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1C1A6-4C0A-48A6-842C-992D65DB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B279-3412-4BA7-B275-3D340784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E5350-862A-4F71-BF0C-D39A23B0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2033C-EEED-4A83-B12D-E0A7E2A9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F605A-A862-4F57-829D-E07E4801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26CCF-4D1A-4775-B3BB-495D19F0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A5EF4-B93C-44FD-91A7-9AE2B4D9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BA87C-E32C-4727-B602-DF4E7755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48AA0-C9D0-4421-814B-5FF8EF0C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1FB62-62CE-4CAB-AF61-76440049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FBF9C-0B1E-443A-8804-2EAE3178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E482B-5437-42F5-9581-5928A1A5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22E4-AB69-4F61-A183-10A10536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B3BBE-265A-421E-9B82-17EC4C42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8E9D4-BF5C-4161-A64B-999EAA3F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31310-7016-4BF1-BDE8-1B284220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7EFC64-7B01-4B6E-A168-55F1267B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8171DC-CF87-4E63-BA7E-9DA095CF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39620-DBAE-46B2-9705-6ABB6B22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025625-4DB0-45DA-B501-55B43242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6CF93-D3E0-4AA1-9189-495AB246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33BE7B-BEB4-423E-94BD-358EBD91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F8FCC5-0514-4F6C-BCD9-B06BC6FE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B465-F536-4248-A45E-0421DEA8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9E1EA0-60D1-4161-8F89-537BA0F4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406381-4190-4CE0-BA99-193A6140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D70AE9-4ACC-4A52-BD81-4DD56808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EBE7A2-70E1-4639-8632-39387409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F6754-3141-4871-B7BF-0832CFEE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4849A-C2D4-44A3-AECC-C8B8D6EA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BBECE7-C8D2-4153-AC04-4C7DD896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D9CAB-D9EA-49F1-9897-AF07F3B2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5A990-8B1A-4B89-8984-381FDBBE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C81F5E-5F39-4927-AA78-8A6863F9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1D6F-D90C-4E40-AE4E-72B81369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35AD3-8F8C-45CE-91CE-6F21C93E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BA248-31FF-4B7A-9CEF-C944D2CD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08F7B-20DC-4B8D-BA3A-98320674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5B4814-5DD7-4DBE-88A3-39DB2480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4E6E4-5BCD-4408-A3B2-A6EF51CF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11CB8-4827-48B9-808E-F9CDA5C4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49BC47-9FDE-4B63-9814-DCE492C4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79B3-5D73-449C-9198-2EB5E603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8209-218F-4B01-9A46-E489A21B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0F42-F3D0-404D-ABFB-7C581332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EAAE-9D54-4A7C-B297-DE0AFBCC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9C54-2B01-4C6D-883F-FF4DE1E5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9477-A54E-4E00-87E7-56D5C7A8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036B-950E-44E5-A283-DFE39E68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290B-A604-448F-8F8D-6EA1C2E5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DD8F-F187-4CC5-8B52-D8381D3E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DAC2-7348-4D29-9E6D-558FD9CA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6B766-7979-4FE7-9C29-AC099A71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FDC24-2611-4AA9-B5ED-1FFCEE1C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29ED3-531E-4A9E-93C8-A923B27E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B8C45-29F9-45EF-8E3C-F15D3961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F12A7-A083-4860-B24C-588D60ED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EB6D-3E9D-4C26-91C4-51D6B85B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F88FB-6B87-4C50-971C-9EE8AEBC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F78FA-CC0A-4250-8335-F4F45959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CD083-55C3-47CE-A2CA-14D2423C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6D477-3E4D-41A3-8AFF-1537BD7E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C2DB9-1500-427A-9BD2-D9383C65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E2CAB-8B7C-4E2C-9EE9-E155DFEE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0DE65-6E26-4579-A997-AA1F3890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B432B-0B0A-48F4-B106-3F03F82D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D3788-D0D6-4EB3-A623-1B0838FC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7A124-FBE2-4FEC-8CE4-E88985D2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775C-FB61-4AF2-835A-B3C53F34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7C5C0-D729-403F-AC83-EED8D140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DC203-17A9-4EE2-92E9-16885B43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0ADBA-2705-43B4-A928-CF89F79D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86BEB-A9E7-4D08-AEBB-70714440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2D6E6-DC0B-4723-A863-146B3AA3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7EFF8-2C9C-4E11-8025-FF1766F0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CAF4A-1B15-4D60-BE63-BD2710E7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1ACE0-2E7F-4BF7-A422-8AD9E885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34748-A30D-44BE-8F76-36842F8E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769BB-3AED-4866-A785-18D6304A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E23-2E9D-47E0-944E-633C565C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EE5D3-75BA-4107-91BF-061F8BB4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24AEC-3BFA-4751-ABE6-53D45242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58846-6982-4030-A4F6-53A33B02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03ED4-5E96-4092-8AC8-5CF20BC8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D7038-E37A-44FD-B71F-443C3EE4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B7050-EEB6-4170-89D3-D26918D9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03F6C-2E83-4F09-85F5-7EBF6677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FD8C9-263E-49E1-BD2E-963706A8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121DC-1672-437D-B5A5-F8489EE1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B3D36-1D22-4772-97AE-8A98F835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DD68-CC62-49D3-9A71-B42F9F5D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9812A-959D-483F-96F5-668C4E2B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79C12-48A0-4E34-A3A3-430E0DF0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668ED-C41C-4A2F-89CB-DF36A3A7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5475E-27C4-464F-8599-C4BFC331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E14DA-63D2-4B45-BA3A-F18A325C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F94F6-53D1-4656-B2DB-E281513C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30A4A-7796-474B-BEFF-22D42D52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1163E-855C-4884-AB50-844288DD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C0BD1-8DC0-4181-A9E9-A0964C88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350AE-450A-4C40-82D5-10A1FB70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C61-DCF6-42EA-A2FA-F4C6E38B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E2871-0D75-475C-A4B2-1523AFE1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F9469-EB71-4E79-B019-76E5B81B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3BFBE-BFF9-4425-861C-4250F294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34DEC-44A3-4897-80ED-2C1AE5CA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1AED1-A6C5-458F-A755-2B0176FF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1492C-09EC-4F83-A322-7DDF0F73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6B956-FED8-4EB0-981A-CEAB78EE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4DAF1-2198-462C-BEF9-DCB8EEAC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19A91-E34E-4A79-AB32-3B402B2E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22790-8522-4817-A347-E536ACD7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1A2-A096-4628-8A24-C7842150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733BC-121B-4140-8275-AA1B4CFC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70D78-8204-4A5D-B4D8-0260BAC6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6841A-D718-41F9-86D1-3FE1AFA0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08649-E933-4AF3-8567-8669BB52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AB0B5-062D-4E3E-BD0D-3AE19400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C8992-CBF8-4042-8EAE-34F0774D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94F5A-303D-48D1-ABB3-EB72F137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16053-0F43-40E0-B99B-840EDA3E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6AAB7-8CF3-4D77-B5C1-1C705578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F3FAE-834B-4117-8F5E-F65B2B1D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AEF-9831-497B-8FB6-FDF5932B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914DC-89FF-45CE-9988-610441F8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ADD3D-3290-4F12-9346-001DFE56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71986-BCED-4438-9992-9D5386C9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622A7-54C5-4648-B5FA-038FFD5F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168B6-61E6-448E-8547-83536803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4668C-E7FC-494E-ABAD-A9E3DC86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B86C7-E57A-45A1-BBBB-6EA54834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944211-2AA3-4FDA-A43A-5D1145CA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A4D3B-B836-499B-8A62-14AD1995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CB4388-B67E-47B4-920E-CDAAA001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A14E-81A3-475A-A832-2F6805C6217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8726-51C5-47F2-BE48-BB3792F3FAC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AFBA-3883-4A4B-B357-DDE94FB7B1A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0EBE-EBA9-425F-B995-643E24CF91D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66CB-532F-4766-9AC6-1340FC9CEE1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22E7-2642-4B67-B7B5-8B0712D3B4F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3E17-F468-424C-B2F8-9B91ADF7B07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9FFF-AAF6-42F2-8F17-D91093D575E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DB36-5E68-48C5-83BB-DB2F212D5B9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F75E-27C6-4663-9135-D879282B6AA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1120-5984-4D3F-97E7-26C97974254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2BCF-C1AD-4992-8C8D-59ED26AD1A6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EF05-F4FF-4445-8756-34271F05C9C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Заголовок 1"/>
          <p:cNvSpPr/>
          <p:nvPr/>
        </p:nvSpPr>
        <p:spPr>
          <a:xfrm>
            <a:off x="179280" y="189000"/>
            <a:ext cx="8785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00"/>
                </a:solidFill>
                <a:latin typeface="Georgia"/>
              </a:rPr>
              <a:t>Почвы. Охрана почв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2" descr="http://purichvalera.com/wp-content/uploads/2011/09/obrabotka-pochvyi.jpg"/>
          <p:cNvPicPr/>
          <p:nvPr/>
        </p:nvPicPr>
        <p:blipFill>
          <a:blip r:embed="rId1"/>
          <a:stretch/>
        </p:blipFill>
        <p:spPr>
          <a:xfrm>
            <a:off x="1042920" y="1341360"/>
            <a:ext cx="6842160" cy="532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Орудия труда, которыми наши предки обрабатывали почву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5" name="Picture 4" descr="C:\Documents and Settings\Катюська\Мои документы\Мои рисунки\2011-12-05, окр  мир\окр  мир 002.jpg"/>
          <p:cNvPicPr/>
          <p:nvPr/>
        </p:nvPicPr>
        <p:blipFill>
          <a:blip r:embed="rId1"/>
          <a:stretch/>
        </p:blipFill>
        <p:spPr>
          <a:xfrm>
            <a:off x="4572000" y="3645000"/>
            <a:ext cx="4313160" cy="22986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76" name="TextBox 11"/>
          <p:cNvSpPr/>
          <p:nvPr/>
        </p:nvSpPr>
        <p:spPr>
          <a:xfrm>
            <a:off x="6013800" y="5805360"/>
            <a:ext cx="15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ы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4" descr="C:\Documents and Settings\Катюська\Мои документы\Мои рисунки\2011-12-05, окр  мир\окр  мир 002.jpg"/>
          <p:cNvPicPr/>
          <p:nvPr/>
        </p:nvPicPr>
        <p:blipFill>
          <a:blip r:embed="rId2"/>
          <a:stretch/>
        </p:blipFill>
        <p:spPr>
          <a:xfrm>
            <a:off x="250920" y="1628640"/>
            <a:ext cx="4511520" cy="25210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78" name="TextBox 13"/>
          <p:cNvSpPr/>
          <p:nvPr/>
        </p:nvSpPr>
        <p:spPr>
          <a:xfrm>
            <a:off x="531720" y="4076640"/>
            <a:ext cx="348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на-суков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дия труда, которыми наши предки обрабатывали почву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0" name="Picture 2" descr="C:\Documents and Settings\Катюська\Мои документы\Мои рисунки\2011-12-05, окр  мир\окр  мир 003.jpg"/>
          <p:cNvPicPr/>
          <p:nvPr/>
        </p:nvPicPr>
        <p:blipFill>
          <a:blip r:embed="rId1"/>
          <a:stretch/>
        </p:blipFill>
        <p:spPr>
          <a:xfrm>
            <a:off x="3419640" y="1773360"/>
            <a:ext cx="5589360" cy="33843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81" name="TextBox 7"/>
          <p:cNvSpPr/>
          <p:nvPr/>
        </p:nvSpPr>
        <p:spPr>
          <a:xfrm>
            <a:off x="5718240" y="5157720"/>
            <a:ext cx="9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2" descr="C:\Documents and Settings\Катюська\Мои документы\Мои рисунки\2011-12-05, окр  мир\окр  мир 003.jpg"/>
          <p:cNvPicPr/>
          <p:nvPr/>
        </p:nvPicPr>
        <p:blipFill>
          <a:blip r:embed="rId2"/>
          <a:stretch/>
        </p:blipFill>
        <p:spPr>
          <a:xfrm>
            <a:off x="324000" y="1628640"/>
            <a:ext cx="2922480" cy="4176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83" name="TextBox 9"/>
          <p:cNvSpPr/>
          <p:nvPr/>
        </p:nvSpPr>
        <p:spPr>
          <a:xfrm>
            <a:off x="900000" y="58053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б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ожет разрушать почву?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5" name="TextBox 5"/>
          <p:cNvSpPr/>
          <p:nvPr/>
        </p:nvSpPr>
        <p:spPr>
          <a:xfrm>
            <a:off x="324000" y="1268280"/>
            <a:ext cx="86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вневые дожди губят будущий урожай, смывают плодородный слой почвы. Сильные ветры выдувают мельчайшие частички почвы. Суховеи иссушают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6"/>
          <p:cNvSpPr/>
          <p:nvPr/>
        </p:nvSpPr>
        <p:spPr>
          <a:xfrm>
            <a:off x="1713600" y="692280"/>
            <a:ext cx="602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природны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2" descr="http://priroda-yavlenie.ru/images/x_8d4396ce.jpg"/>
          <p:cNvPicPr/>
          <p:nvPr/>
        </p:nvPicPr>
        <p:blipFill>
          <a:blip r:embed="rId1"/>
          <a:srcRect l="0" t="0" r="72" b="0"/>
          <a:stretch/>
        </p:blipFill>
        <p:spPr>
          <a:xfrm>
            <a:off x="1835280" y="3284640"/>
            <a:ext cx="56530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Box 6"/>
          <p:cNvSpPr/>
          <p:nvPr/>
        </p:nvSpPr>
        <p:spPr>
          <a:xfrm>
            <a:off x="1855440" y="189000"/>
            <a:ext cx="557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7"/>
          <p:cNvSpPr/>
          <p:nvPr/>
        </p:nvSpPr>
        <p:spPr>
          <a:xfrm>
            <a:off x="179280" y="90792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орение промышленными и бытовыми от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http://gkh.com.ua/upload/iblock/d85/szpac.jpg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2" descr="C:\Documents and Settings\Катюська\Мои документы\Мои рисунки\2011-12-05, окр  мир\окр  мир 009.jpg"/>
          <p:cNvPicPr/>
          <p:nvPr/>
        </p:nvPicPr>
        <p:blipFill>
          <a:blip r:embed="rId1"/>
          <a:stretch/>
        </p:blipFill>
        <p:spPr>
          <a:xfrm>
            <a:off x="971640" y="0"/>
            <a:ext cx="7121520" cy="42926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92" name="TextBox 7"/>
          <p:cNvSpPr/>
          <p:nvPr/>
        </p:nvSpPr>
        <p:spPr>
          <a:xfrm>
            <a:off x="0" y="43038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ая обработка почвы, неграмотный уход за растениями,  использование больш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а минеральных веществ (удобрени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химикатов для борьбы с вредителями и сорня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Опыт наших пред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4" name="TextBox 3"/>
          <p:cNvSpPr/>
          <p:nvPr/>
        </p:nvSpPr>
        <p:spPr>
          <a:xfrm>
            <a:off x="179280" y="1341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сить мусор, плюнуть на землю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4"/>
          <p:cNvSpPr/>
          <p:nvPr/>
        </p:nvSpPr>
        <p:spPr>
          <a:xfrm>
            <a:off x="1068480" y="1989000"/>
            <a:ext cx="73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вы делали на ровной поверх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5"/>
          <p:cNvSpPr/>
          <p:nvPr/>
        </p:nvSpPr>
        <p:spPr>
          <a:xfrm flipH="1">
            <a:off x="179280" y="2637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ы холмов – для  многолетних т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6"/>
          <p:cNvSpPr/>
          <p:nvPr/>
        </p:nvSpPr>
        <p:spPr>
          <a:xfrm>
            <a:off x="971640" y="3284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ые отходы,  растительные ост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ывали в компостные ку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8"/>
          <p:cNvSpPr/>
          <p:nvPr/>
        </p:nvSpPr>
        <p:spPr>
          <a:xfrm>
            <a:off x="385560" y="4365720"/>
            <a:ext cx="837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ли п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ли свойства не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й для борьбы с вре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Опыт наших пред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TextBox 4"/>
          <p:cNvSpPr/>
          <p:nvPr/>
        </p:nvSpPr>
        <p:spPr>
          <a:xfrm>
            <a:off x="347040" y="1484280"/>
            <a:ext cx="72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лись приметить «гнилые угл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5"/>
          <p:cNvSpPr/>
          <p:nvPr/>
        </p:nvSpPr>
        <p:spPr>
          <a:xfrm>
            <a:off x="404640" y="2133720"/>
            <a:ext cx="873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щиты от сильных ветров сажали дере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6"/>
          <p:cNvSpPr/>
          <p:nvPr/>
        </p:nvSpPr>
        <p:spPr>
          <a:xfrm>
            <a:off x="272880" y="3213000"/>
            <a:ext cx="782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для задержания снежного пок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ли щи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8"/>
          <p:cNvSpPr/>
          <p:nvPr/>
        </p:nvSpPr>
        <p:spPr>
          <a:xfrm>
            <a:off x="702360" y="4365720"/>
            <a:ext cx="595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зили на поля золу и нав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6" name="Picture 2" descr="https://ds04.infourok.ru/uploads/ex/03ba/00158789-34d7f232/hello_html_796e18c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C:\Documents and Settings\Катюська\Мои документы\Мои рисунки\2011-12-05, окр  мир\окр  мир 004.jpg"/>
          <p:cNvPicPr/>
          <p:nvPr/>
        </p:nvPicPr>
        <p:blipFill>
          <a:blip r:embed="rId1"/>
          <a:stretch/>
        </p:blipFill>
        <p:spPr>
          <a:xfrm>
            <a:off x="971640" y="1197000"/>
            <a:ext cx="6913440" cy="5481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59" name="TextBox 5"/>
          <p:cNvSpPr/>
          <p:nvPr/>
        </p:nvSpPr>
        <p:spPr>
          <a:xfrm>
            <a:off x="243000" y="189000"/>
            <a:ext cx="85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те, что вы знае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битателях почв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истая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1" name="Picture 6" descr="C:\Users\79995\Desktop\big-57cac599ff9367028602ad13-57e2abe09877f-1bu5av0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162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916360" y="260280"/>
            <a:ext cx="352872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Песчаная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3" name="Picture 7" descr="C:\Users\79995\Desktop\osobenosti-pochvu-pesok.jpg"/>
          <p:cNvPicPr/>
          <p:nvPr/>
        </p:nvPicPr>
        <p:blipFill>
          <a:blip r:embed="rId1"/>
          <a:stretch/>
        </p:blipFill>
        <p:spPr>
          <a:xfrm>
            <a:off x="-181080" y="1268280"/>
            <a:ext cx="9525240" cy="4762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73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Сухая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5" name="Picture 7" descr="C:\Users\79995\Desktop\1582092037_18-p-treshchini-v-pustine-29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50403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Глинистая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7" name="Picture 7" descr="C:\Users\79995\Desktop\kachestvo-pochvy-na-dache3-1.jpg"/>
          <p:cNvPicPr/>
          <p:nvPr/>
        </p:nvPicPr>
        <p:blipFill>
          <a:blip r:embed="rId1"/>
          <a:stretch/>
        </p:blipFill>
        <p:spPr>
          <a:xfrm>
            <a:off x="900000" y="1160640"/>
            <a:ext cx="7596360" cy="569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4"/>
          <p:cNvSpPr/>
          <p:nvPr/>
        </p:nvSpPr>
        <p:spPr>
          <a:xfrm>
            <a:off x="1979640" y="0"/>
            <a:ext cx="504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Чернозё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5" descr="C:\Users\79995\Desktop\i.jpg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84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1" name="Picture 6" descr="Profili pothv"/>
          <p:cNvPicPr/>
          <p:nvPr/>
        </p:nvPicPr>
        <p:blipFill>
          <a:blip r:embed="rId1"/>
          <a:stretch/>
        </p:blipFill>
        <p:spPr>
          <a:xfrm>
            <a:off x="0" y="-325440"/>
            <a:ext cx="9144000" cy="7183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6" descr="120103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2:29:18Z</dcterms:created>
  <dc:creator>DNA7 X86</dc:creator>
  <dc:description/>
  <dc:language>en-US</dc:language>
  <cp:lastModifiedBy>79995678691</cp:lastModifiedBy>
  <dcterms:modified xsi:type="dcterms:W3CDTF">2020-12-20T10:16:30Z</dcterms:modified>
  <cp:revision>1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210000000000010243100207f6000400038000</vt:lpwstr>
  </property>
</Properties>
</file>