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5AC-27A4-4D51-AF72-AA996041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0B0-22B2-47D5-9530-6749CD1A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F38DC-B907-49C6-8122-425073E1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CD231-7618-4DC4-9301-685AECE8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32733-9C3E-4ED3-8519-0F6215F8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23583-5E99-45C5-8A2D-796D807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1C79D-3087-4C9F-AC41-FD70F4E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C5A51-098C-48F4-AC79-0528A88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55CE2-81EF-43D1-9429-18AA364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485FF-F11C-4F39-B160-E781E0D8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B8431-AF0F-4568-991D-BF7A7012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20329-EE94-42D3-9C92-67331243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3BB-E347-4092-B300-9A4FCA40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C465F-6110-4E3F-B1C2-1F637E25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27383-D8C1-4C9B-A8E7-CAC3D13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94754-9D9E-4E18-A840-7C697AC2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4D408-1813-438C-A224-43A397B5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00212-CCB7-4D87-87E1-CA91B361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9EC4F-4322-4176-BA54-AC9279E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A90E4-E6FD-4D05-BE6F-E59D513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1CD91-5DAF-4B0E-B4BF-09246F5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A3B96-4D51-4724-BE91-82FC2071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3D704-DDEA-4FCF-A36C-3C86CDCA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CF1-6881-4339-B708-8F7D31FA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514B5-699E-48BE-BA4D-B5295102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CE183-C5C4-460B-A89B-35AC9EC8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EB28B-D50F-4CE4-B076-C9D153B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3A50-1A4B-44AB-A861-4DD999D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AC9F2-4260-46AD-BBF2-ED83F2D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98957-A3D2-4F59-8FC8-F813A39C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A6307-7166-425E-816B-0A7516BF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F5986-7CD2-484B-80DA-FBFE762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D1E15-AE04-4B72-9202-BD26A77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66550-A2F1-4E0A-BD4B-9B232CEE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DE8A-BEF7-4863-B45F-AEB6F88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69502-C2B5-4EEE-859A-F7A2B954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4AE4C-A5B2-44AC-8925-5237F69C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A2015-CDA2-4ADF-94FB-7A14384B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BF808-D2E9-4876-8637-98A56B93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2CF13-618A-4DB2-B347-3FEF163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6D0FB-8B8B-40A9-8D8A-C2BF8608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884BA-7F4E-4540-B797-DD40B321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1677F-B09C-4A49-B325-34060A0A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56D83-E677-4359-98C9-239E32DB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CE19A-1E48-48EB-911A-435FC022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D0D0-E23F-4482-8A45-ABD83151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5D073-A836-41D1-BFFB-7C48D97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D10D6-0CC2-4692-8574-2542769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3F456-75C7-4692-9387-ABDCDCDA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BAD7A-E131-438B-BDA7-73B5821E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AFE47-7734-494D-97DA-B0FC0F05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B191F-A0EB-4B19-877A-F9B01041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E0B6F-5936-473A-8612-5A53E34D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3634F-4839-4628-9BDC-7858105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9B0C0-0AE5-4D94-8B28-6F97B4A7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C2694-15D5-40CB-90D4-9FC39F4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E81-D309-4BB7-B00A-BE39275E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7EF7D-E85B-4191-8868-3BB188FD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28E9E-B86A-4976-B492-59570C38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472A6-A9B7-4B5C-92E1-74D5718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B6C2A-6043-460E-9325-17163606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41EB1-A30E-484F-A307-E5DDCC2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42373-5070-4401-831A-5E63C9E7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EB532-00BD-4C9B-A6BD-E3C001AB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BB5-6FBF-419D-9351-1AF3D030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D516-2BC9-4502-8F1A-61BC58F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FA2-CAA7-4436-8951-327BD7C5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267D-7FDA-41B2-9E94-3F57719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CE7-E4E4-4BEF-8F0E-C47D7B65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6DB1-6741-48FF-A252-E868DC9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A30F-DC63-4064-B80E-B2C50880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38EF-C97A-4D7B-8EDA-227FF795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AB00-C278-4A80-BD9F-3460859F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B156-2D3C-4BC7-A81D-B1DE4E75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694F-C8C0-4052-9AE7-11A178DF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3642-CD61-4A11-8D83-0789856E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E1E1-49C5-4AB9-AD1B-37F53779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E216-E31B-464F-9262-976C5A9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88AB-4756-4E4B-B444-1EF7C7D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BBF-A7B8-4293-9235-B0AC098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4992-30FF-4B71-800A-36E212B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0582-6A73-4F44-8E13-5C73F01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B571-304B-43B6-94F6-932076D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EEE6-B44B-4822-AFD4-60CCE98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1797-4E0F-41AD-8E67-E51818B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E428-D1C8-4F26-83A1-36937E4C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8DF2-F8D9-4271-AF56-90C07E74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98EB-0409-4716-A0E0-777D082D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FC37-6592-4913-BA9F-A4061E05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BF7A-7FEB-422B-99E4-E9CF710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E3F-4A6C-4F71-945F-9EA90C4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0A64-20CE-4139-B7AE-F8A34321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1EF5-AE33-49BC-ABE5-F3A50F91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2B79-FDB4-4BE3-B08A-54EC49E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C53F-F255-4B77-AF47-AA5BD1D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E8AA-A686-4560-907F-FEFC90E2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CC29-C257-4AD3-A422-1A6878B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93D8-DE82-4122-A6D9-695A1EE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B6EF-B588-4E31-972D-F4616205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53F3-20ED-4CFF-8FCC-CF3FB4D5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68A1E-CAFB-42B9-ABFC-3034A3E8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CC2-16E7-4D3A-894C-2458293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C0F0E-EEFD-48D8-B445-29A91B5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EB1F-AAEA-4B36-9732-984A0A92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7AEF-8153-443A-BE54-8690509B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0D73-ADCD-4267-9A22-FA8A30CF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DCEEE-643D-4A0C-A4DB-D625BEA6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140B-9108-4C9F-A697-70DFD74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AFE8-813B-4224-A869-7858478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F26C-39D9-497A-AB65-03302B7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30C89-EECF-4D10-9224-E3CA40E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3DEF-FBBC-4DDF-9D4E-F523F597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CD1-BEFF-4B39-AAA3-806DB4EA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1422-BC65-46F4-80F2-18232D9C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ED2F-138F-47D2-9BF9-8F51EDF8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DB90D-80D8-4076-BAE8-F091B34D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6732-CA65-4DE5-9742-8ABD14E7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882B4-91D0-4E2C-9F81-2CECC72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38BF1-DF70-4D61-A6B7-A2C92222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3BDC-D642-4F89-9720-3ACA6907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C7380-030C-4060-8F8E-53A4AFD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95830-69FD-4379-BD86-CAD0B12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B2F9-C511-47EE-97C8-B36A1F3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1D7-63D3-4ADF-A175-2015989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6F136-01A8-4358-9A1E-5405A88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57924-E2CF-4D04-8156-1FC1E7F7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F452-E1F6-4CBC-805A-4B7FE1E6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72387-CC02-4C68-968A-A0A260B8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516C2-4D34-4053-97CD-EE162E85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A7D9-834B-44F1-9989-60B13F0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0755-AD7E-4746-A1CE-07F18F86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6C60-6812-4391-89A0-C4FEE102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CDDE7-C32F-4DDE-BD78-5E8FB938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1A79-E385-4366-B3C9-DF8F6515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A3A-AAA1-4E05-81FD-D7F3FBA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C519B-0B6B-4088-AE91-114E4E02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B922-1A58-46DE-818C-62727DA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BBB7-E6D9-4801-AD02-A9210B4C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C4DD0-A67F-468E-961F-481F7F35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6188-DCEE-47DF-8DA7-27320CD0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74C5B-E9FF-4247-94F7-99768E93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3F7D-722B-4F79-8D76-875EDBC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F2DD-E5E2-443D-92A1-9F30748A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35F74-6427-4F01-A988-3BEF74C1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96A6-468B-4C63-A2FC-FC75385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B48-2373-45D2-8C84-9F706F80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D702-109A-49EF-A4CF-258C24F1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CC1D-4C06-4C3E-AC0B-1449FE4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3D15-A104-4D30-B4C5-A7F1F99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D902-CEF3-4CA8-BD3F-78CD54C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1A963-7414-4BAF-A6C2-806FCC7E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5F8F-6E0A-4537-B887-AF7F7368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8EA65-52E2-4268-A708-85EAD2C3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0B986-BF85-47F7-B927-162150F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FEE73-9836-4CF2-91A6-035BA22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FC7B9-FEC0-4B8D-8E23-7C3D8CA0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0FD9-E95B-4DC1-91C8-3362054C3F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B2A5-4105-405E-9487-41C34F3BCE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E6A7-F4AB-49DD-9469-507FF9A290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7933-6156-4548-901C-16BED408BD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6FB-6BE7-49A4-B818-7313C63611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96EB-A928-47FB-81DC-2C5AD34FD3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00A-1639-4793-8504-316F8A3C87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F0F3-26CF-4097-A023-744EE1C06B4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670-70ED-4CF6-ADC9-2EACF518AFB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0AF-A570-4772-A799-4DA29B4E6ED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771-8419-4C22-9C52-72C1793645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8F8-E69A-4560-BAAE-263B08051D3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B0F-BE50-43A0-8586-CFA263A1D4F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Заголовок 1"/>
          <p:cNvSpPr/>
          <p:nvPr/>
        </p:nvSpPr>
        <p:spPr>
          <a:xfrm>
            <a:off x="179280" y="189000"/>
            <a:ext cx="878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Georgia"/>
              </a:rPr>
              <a:t>Почвы. Охрана почв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http://purichvalera.com/wp-content/uploads/2011/09/obrabotka-pochvyi.jpg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3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1"/>
          <a:stretch/>
        </p:blipFill>
        <p:spPr>
          <a:xfrm>
            <a:off x="4572000" y="3645000"/>
            <a:ext cx="4313160" cy="2298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6" name="TextBox 11"/>
          <p:cNvSpPr/>
          <p:nvPr/>
        </p:nvSpPr>
        <p:spPr>
          <a:xfrm>
            <a:off x="6013800" y="5805360"/>
            <a:ext cx="15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ы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2"/>
          <a:stretch/>
        </p:blipFill>
        <p:spPr>
          <a:xfrm>
            <a:off x="250920" y="1628640"/>
            <a:ext cx="4511520" cy="2521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8" name="TextBox 13"/>
          <p:cNvSpPr/>
          <p:nvPr/>
        </p:nvSpPr>
        <p:spPr>
          <a:xfrm>
            <a:off x="531720" y="407664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на-суков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1"/>
          <a:stretch/>
        </p:blipFill>
        <p:spPr>
          <a:xfrm>
            <a:off x="3419640" y="1773360"/>
            <a:ext cx="5589360" cy="3384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1" name="TextBox 7"/>
          <p:cNvSpPr/>
          <p:nvPr/>
        </p:nvSpPr>
        <p:spPr>
          <a:xfrm>
            <a:off x="5718240" y="5157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2"/>
          <a:stretch/>
        </p:blipFill>
        <p:spPr>
          <a:xfrm>
            <a:off x="324000" y="1628640"/>
            <a:ext cx="2922480" cy="41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3" name="TextBox 9"/>
          <p:cNvSpPr/>
          <p:nvPr/>
        </p:nvSpPr>
        <p:spPr>
          <a:xfrm>
            <a:off x="900000" y="58053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ет разрушать почву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324000" y="1268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невые дожди губят будущий урожай, смывают плодородный слой почвы. Сильные ветры выдувают мельчайшие частички почвы. Суховеи иссушаю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1713600" y="692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рирод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http://priroda-yavlenie.ru/images/x_8d4396ce.jpg"/>
          <p:cNvPicPr/>
          <p:nvPr/>
        </p:nvPicPr>
        <p:blipFill>
          <a:blip r:embed="rId1"/>
          <a:srcRect l="0" t="0" r="72" b="0"/>
          <a:stretch/>
        </p:blipFill>
        <p:spPr>
          <a:xfrm>
            <a:off x="1835280" y="3284640"/>
            <a:ext cx="5653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6"/>
          <p:cNvSpPr/>
          <p:nvPr/>
        </p:nvSpPr>
        <p:spPr>
          <a:xfrm>
            <a:off x="1855440" y="189000"/>
            <a:ext cx="55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179280" y="9079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рение промышленными и бытовыми от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http://gkh.com.ua/upload/iblock/d85/szpac.jpg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C:\Documents and Settings\Катюська\Мои документы\Мои рисунки\2011-12-05, окр  мир\окр  мир 009.jpg"/>
          <p:cNvPicPr/>
          <p:nvPr/>
        </p:nvPicPr>
        <p:blipFill>
          <a:blip r:embed="rId1"/>
          <a:stretch/>
        </p:blipFill>
        <p:spPr>
          <a:xfrm>
            <a:off x="971640" y="0"/>
            <a:ext cx="7121520" cy="4292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92" name="TextBox 7"/>
          <p:cNvSpPr/>
          <p:nvPr/>
        </p:nvSpPr>
        <p:spPr>
          <a:xfrm>
            <a:off x="0" y="43038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бработка почвы, неграмотный уход за растениями,  использование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минеральных веществ (удобрен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химикатов для борьбы с вредителями и сорня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 мусор, плюнуть на землю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068480" y="198900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делали на ров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5"/>
          <p:cNvSpPr/>
          <p:nvPr/>
        </p:nvSpPr>
        <p:spPr>
          <a:xfrm flipH="1">
            <a:off x="179280" y="26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ы холмов – для  многолетних т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6"/>
          <p:cNvSpPr/>
          <p:nvPr/>
        </p:nvSpPr>
        <p:spPr>
          <a:xfrm>
            <a:off x="971640" y="328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отходы,  растительные ост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ли в компостные к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385560" y="4365720"/>
            <a:ext cx="83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ли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войства не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для борьбы с вре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347040" y="148428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ись приметить «гнилые уг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404640" y="2133720"/>
            <a:ext cx="87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т сильных ветров сажали 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6"/>
          <p:cNvSpPr/>
          <p:nvPr/>
        </p:nvSpPr>
        <p:spPr>
          <a:xfrm>
            <a:off x="272880" y="3213000"/>
            <a:ext cx="782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ля задержания снежного пок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ли 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702360" y="436572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или на поля золу и на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2" descr="https://ds04.infourok.ru/uploads/ex/03ba/00158789-34d7f232/hello_html_796e18c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C:\Documents and Settings\Катюська\Мои документы\Мои рисунки\2011-12-05, окр  мир\окр  мир 004.jpg"/>
          <p:cNvPicPr/>
          <p:nvPr/>
        </p:nvPicPr>
        <p:blipFill>
          <a:blip r:embed="rId1"/>
          <a:stretch/>
        </p:blipFill>
        <p:spPr>
          <a:xfrm>
            <a:off x="971640" y="1197000"/>
            <a:ext cx="6913440" cy="5481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59" name="TextBox 5"/>
          <p:cNvSpPr/>
          <p:nvPr/>
        </p:nvSpPr>
        <p:spPr>
          <a:xfrm>
            <a:off x="243000" y="189000"/>
            <a:ext cx="85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вы зна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итателях поч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иста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6" descr="C:\Users\79995\Desktop\big-57cac599ff9367028602ad13-57e2abe09877f-1bu5av0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8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есчана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7" descr="C:\Users\79995\Desktop\osobenosti-pochvu-pesok.jpg"/>
          <p:cNvPicPr/>
          <p:nvPr/>
        </p:nvPicPr>
        <p:blipFill>
          <a:blip r:embed="rId1"/>
          <a:stretch/>
        </p:blipFill>
        <p:spPr>
          <a:xfrm>
            <a:off x="-181080" y="1268280"/>
            <a:ext cx="9525240" cy="476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C:\Users\79995\Desktop\1582092037_18-p-treshchini-v-pustine-2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504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инист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Picture 7" descr="C:\Users\79995\Desktop\kachestvo-pochvy-na-dache3-1.jpg"/>
          <p:cNvPicPr/>
          <p:nvPr/>
        </p:nvPicPr>
        <p:blipFill>
          <a:blip r:embed="rId1"/>
          <a:stretch/>
        </p:blipFill>
        <p:spPr>
          <a:xfrm>
            <a:off x="900000" y="1160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979640" y="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рнозё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:\Users\79995\Desktop\i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Picture 6" descr="Profili pothv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6" descr="12010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79995678691</cp:lastModifiedBy>
  <dcterms:modified xsi:type="dcterms:W3CDTF">2020-12-20T10:16:30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10000000000010243100207f6000400038000</vt:lpwstr>
  </property>
</Properties>
</file>