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5EC8-D586-4289-B389-5AE9577E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35E9-2BCC-40D3-9E19-FD59AE47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9B5858-EDF7-4C92-A167-3D86AD08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B99AED-0668-4E64-A9B0-28C1CDA3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0B3333-2AE4-42A8-A856-F5995D72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17074A-2AEC-4540-8286-8A23B248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ADAAEC-5310-4345-AB5D-C3838DD5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ECCE52-27C5-4ADD-AD72-1D001E53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52320D-5C3E-45D1-BB46-3ED38886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15C5E5-5B83-464B-83AF-0D44CF90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793AE3-A846-48D6-8007-434B2B31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6EA81C-3945-42D7-AD78-16C53DDE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10D6-387D-4A6F-9E03-A4D2E182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4DF68E-0066-4178-8DEB-50896508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E9B1F8-EC31-41A2-BC46-9B08C3F3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4159D5-D537-4DC4-83E4-07333619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2EB50E-7A78-4486-B9AF-2639AFB9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B02AC3-729F-40CD-9CD1-713545D7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416162-879B-4479-8789-4029B1C3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7AD99E-4DF7-4E2B-B57A-34FCCF54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344274-B056-4161-A65F-6C3B2EAE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3E400F-049E-4359-88FB-D34E780B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F2D84D-0415-4A01-8BD1-D33E41F1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BBFD-0AFD-4B9E-9E20-2CADC1D8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B0E4FC-4EF9-4E40-B1B4-12472D3B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EC937-B6EE-4E4D-B4D3-EEF70C7C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3C5F8-65AB-4101-AC50-3CA013ED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DC841-5581-4941-8B73-D5D3A8A8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9FD40-2563-476F-957C-20CB0954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393CB-0C74-41DD-9EF3-78CB81B5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FF44E-9122-4472-A630-0D369BF1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62022-27D1-4100-AF71-28315AEB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9AFD5-964C-4080-95CA-A70AD1F6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88968-75A9-4667-86B8-B1CAD9EE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9DA7-61C1-416E-A59D-DCE0520A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3DDFC-1A32-4CF5-AD8F-483A5269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1F1E8-1606-460C-ADBD-945332B9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7EC51-0C37-4561-8DD3-41E3A996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E1D131-8265-4255-BC2A-55AAA84E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88AD0A-AF51-463B-B23C-01A2D6FD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8719C1-3FEE-4A27-8372-7EE9AEC0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869F96-827F-4C65-8518-5DF3F622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5DBB53-E0FF-479A-9D9C-45E98E1E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680866-DC44-462F-BB2D-B859B143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F92D00-65CC-4C19-888A-344B2CF9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0B00-3E5D-416B-92B7-9ABC11CE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3D0D16-1FA3-4383-A45F-F94989DF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340E74-D779-4360-B83A-F2545605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41D7A5-6E6E-4B6A-A325-A48A3D3B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13E52D-6F93-443D-8DA2-759A87D1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BDCDC1-DAA9-4227-B431-F824EEC3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DCD8E2-1351-47AB-9336-24B286A6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C5FB87-658A-46BF-8A93-B3E3B817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39B525-70DA-476A-934B-5E86BACC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944072-F28D-4446-8BA1-89F9AC58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131601-1E9F-4ECD-A94A-92DFF589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B085-015D-408B-852B-E9E82FDC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4F055B-F5CE-4BE1-B527-9F39060C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5D7FD2-389A-497D-B068-60829C48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577EF7-6CD3-4A55-A25B-78EFD50C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E802B4-88FF-4CA0-A218-D093236A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6DC41-711A-4ECF-BE7A-D3F8B775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0A14F7-0AE5-4A4B-8E0E-334BE3B6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2D27CF-C464-42EE-AEF2-07BB1391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9349-5CB0-4B6A-85AA-D30141C2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33C2-B58D-4D4E-8FE9-F661E5B8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E0EA-20A3-42A3-988B-3D73DAB6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6868-56BD-4B1B-99BB-58B889B8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343B-03A2-4093-987B-8D3A3D15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67E6-FB98-4845-BFED-8EF0B892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BAE5-CC11-4193-802D-3D76C8C5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5CFB-8B05-4D0E-B4A0-ED0E6A98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27E6-C868-44C3-A133-2854212F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0600-C7B0-4CA1-9415-1A7008B39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68D18-4C62-4D9E-B17F-A3ED3939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03413-CF39-4434-8449-EF723518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5D9D0-FB57-42A1-BFB3-434C20D0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29392-A7FA-410C-866A-6A79A708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08802-2816-4E7F-A41C-783258E9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6B56-A9EE-4688-9DFF-681C2CC5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0F67A-CC5E-43E5-A59E-5C28C0D0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56EBD-16EA-4263-9CF5-D82F7F43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64A08-A574-41E2-9222-2C2DA81A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64EBA-330A-4EE3-9514-9B7D5957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81E70-A26B-463C-8AA0-CBA0CDF3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F7B06-5814-4B0B-BA26-FD47145A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DEE1D-DE18-497C-92AF-13288912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EC496-23ED-4B45-A998-633D0916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36CC4-14E2-408E-8F5C-0797049F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5FF8B-C295-4EFC-B263-A9081ADD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8D86-E593-4907-937C-0F4513AC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12B19-D032-40B5-8AB0-6F534001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5FF44-1595-433A-95CC-F0DB061D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7B248-02CC-4E6C-B3D9-33167F4D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57BB4-9964-4699-B4ED-2F52AB1F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90B8E-D02B-48C8-81E8-144EDA3D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16688-2E73-4031-ACC8-A739F8DF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DA792-3E79-487A-A006-D1C0ED7C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7F5CC-B70A-48E9-BC4A-23C3B7FA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617B4-5CA1-4B54-8C63-CADE558F6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9F348-9682-42F5-9B33-9D82EE29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56BF-403A-4FAC-B1E6-ACFE0740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8A514-CF6D-4112-95EA-56D81C3A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E70A5-7CA3-4C51-AA38-A52DC6E9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32D9D-8ED4-4549-BDA3-C6509B51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D2D86-D7B8-44D5-A3E0-B706C4EC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B4721-3D7D-4D21-BDF6-4B9594F2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F032B-699B-4F70-9DF1-32E58013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BBB04-F9DA-4CA5-B155-966A7BFA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9A085-5A03-4D69-93A6-311C22BE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2B203-0643-4C64-97B8-024FF51D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D1A64-00FF-4F3C-BD8B-C0F44EF5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4816-2BF8-49F6-A85E-BC1CDFDF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A5423-716C-4B79-B8C1-F1F08173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237FB-8F74-42B1-A05F-0034A9DE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956B1-21A6-430B-B192-7E8412BF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DC4C7-AB97-48A2-8CDD-2D5C5423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5D17F-772F-44BD-82CC-2EBDE21C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CF830-58F3-4DDE-B5F7-991566C1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47079-3306-45B6-8B87-C8676F6F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C8FB7-9422-406E-8247-6528DDF0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67E57-90E4-4791-AC8D-384ECE3E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8B9BE-C73C-4262-804F-CD6FC322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B473-E662-47B8-89AD-32602DFA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4512B-523E-4849-811B-6A3F4017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41429-E6B5-44DB-9276-EBC6476D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0A9EF-A792-408C-AC52-410045FC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574F3-52C0-4F5B-8CB5-0255E2E5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B8838-7785-466E-B797-2CE9B7FF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910D9-8EC9-41D4-9C97-A1A85D8E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93EB5-1D57-404F-B4C4-1B631BBE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ECC79-0483-4453-B18A-443E0D35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50366-A996-4A3F-BD2B-4BB20CE8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88CE6-533D-4543-B390-60673986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351E-D9A2-4EC6-AD5D-30028B2D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643C4-98C6-4798-8517-F84C5A46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EA3BA-902D-4210-863E-37C477DB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61BC3-E9EE-4729-9C50-84302E9A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38CA5-6E8F-4AB5-855C-C1A98D20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C4BEF-B203-41F6-8DE5-A9A338F5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E6B9D-AEFB-4FE1-9B4D-61A17BD0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CFAF1-6BBA-4EB9-9098-2093BFD5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EB25E-892D-4B25-9B87-50812A16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F3547-0480-4710-9B12-3DAE20E3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22F1E-4E33-4EFC-9141-E453E127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3523-D64C-42B8-9129-A8AFF372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36413-8141-45AE-8EF7-1054177D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F5659-2A41-4F77-83FE-64D37438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93EBC-3F43-4311-801B-4A5E3D60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17ADA-B49D-4CA7-8A05-378B7851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73CEA-F16C-464C-84BF-29F5B3EE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ADE36-4E86-410E-8667-21F5EEB8E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F2BC4-0FC2-4CAF-90D4-85F760ED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AE8CA6-BCEE-4233-80E2-F847251D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93FF8A-3664-43F5-B0DA-6EBF9CCC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E1D0D5-663E-4F0E-9084-6121857B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A48B-ABF8-4A6E-B94D-B1436BB5BA1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2924-398D-4D01-9B1D-D6C1356B9E5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CABF-6CA0-4037-A0F1-9702895FBFE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A709-E342-4273-A309-DB5CE0E604B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B3D9-7AD4-48BD-AC6F-F64A5AC1793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1818-85E4-4E5E-9EF8-893FCB619DF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10D2-C1D9-4D2F-8F38-419B5BCFB9A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8AB3-DE24-4997-98AE-607E012CC73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1540-08E9-41D2-AC15-F7D1B4F936C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4B61-380C-4844-8D96-9C4BA73AEE9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C71E-EBB6-4FA2-AB46-FF8E2B66F60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10D2-CD61-40A9-9B8D-F3622C7F2435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C4F0-DDF4-421B-B6F8-8ADEC16EF47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Заголовок 1"/>
          <p:cNvSpPr/>
          <p:nvPr/>
        </p:nvSpPr>
        <p:spPr>
          <a:xfrm>
            <a:off x="179280" y="189000"/>
            <a:ext cx="87854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0000"/>
                </a:solidFill>
                <a:latin typeface="Georgia"/>
              </a:rPr>
              <a:t>Почвы. Охрана почв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2" descr="http://purichvalera.com/wp-content/uploads/2011/09/obrabotka-pochvyi.jpg"/>
          <p:cNvPicPr/>
          <p:nvPr/>
        </p:nvPicPr>
        <p:blipFill>
          <a:blip r:embed="rId1"/>
          <a:stretch/>
        </p:blipFill>
        <p:spPr>
          <a:xfrm>
            <a:off x="1042920" y="1341360"/>
            <a:ext cx="6842160" cy="532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Орудия труда, которыми наши предки обрабатывали почву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5" name="Picture 4" descr="C:\Documents and Settings\Катюська\Мои документы\Мои рисунки\2011-12-05, окр  мир\окр  мир 002.jpg"/>
          <p:cNvPicPr/>
          <p:nvPr/>
        </p:nvPicPr>
        <p:blipFill>
          <a:blip r:embed="rId1"/>
          <a:stretch/>
        </p:blipFill>
        <p:spPr>
          <a:xfrm>
            <a:off x="4572000" y="3645000"/>
            <a:ext cx="4313160" cy="22986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676" name="TextBox 11"/>
          <p:cNvSpPr/>
          <p:nvPr/>
        </p:nvSpPr>
        <p:spPr>
          <a:xfrm>
            <a:off x="6013800" y="5805360"/>
            <a:ext cx="15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ы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4" descr="C:\Documents and Settings\Катюська\Мои документы\Мои рисунки\2011-12-05, окр  мир\окр  мир 002.jpg"/>
          <p:cNvPicPr/>
          <p:nvPr/>
        </p:nvPicPr>
        <p:blipFill>
          <a:blip r:embed="rId2"/>
          <a:stretch/>
        </p:blipFill>
        <p:spPr>
          <a:xfrm>
            <a:off x="250920" y="1628640"/>
            <a:ext cx="4511520" cy="25210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678" name="TextBox 13"/>
          <p:cNvSpPr/>
          <p:nvPr/>
        </p:nvSpPr>
        <p:spPr>
          <a:xfrm>
            <a:off x="531720" y="4076640"/>
            <a:ext cx="348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она-сукова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дия труда, которыми наши предки обрабатывали почву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0" name="Picture 2" descr="C:\Documents and Settings\Катюська\Мои документы\Мои рисунки\2011-12-05, окр  мир\окр  мир 003.jpg"/>
          <p:cNvPicPr/>
          <p:nvPr/>
        </p:nvPicPr>
        <p:blipFill>
          <a:blip r:embed="rId1"/>
          <a:stretch/>
        </p:blipFill>
        <p:spPr>
          <a:xfrm>
            <a:off x="3419640" y="1773360"/>
            <a:ext cx="5589360" cy="33843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681" name="TextBox 7"/>
          <p:cNvSpPr/>
          <p:nvPr/>
        </p:nvSpPr>
        <p:spPr>
          <a:xfrm>
            <a:off x="5718240" y="5157720"/>
            <a:ext cx="97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2" descr="C:\Documents and Settings\Катюська\Мои документы\Мои рисунки\2011-12-05, окр  мир\окр  мир 003.jpg"/>
          <p:cNvPicPr/>
          <p:nvPr/>
        </p:nvPicPr>
        <p:blipFill>
          <a:blip r:embed="rId2"/>
          <a:stretch/>
        </p:blipFill>
        <p:spPr>
          <a:xfrm>
            <a:off x="324000" y="1628640"/>
            <a:ext cx="2922480" cy="4176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683" name="TextBox 9"/>
          <p:cNvSpPr/>
          <p:nvPr/>
        </p:nvSpPr>
        <p:spPr>
          <a:xfrm>
            <a:off x="900000" y="58053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б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может разрушать почву?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5" name="TextBox 5"/>
          <p:cNvSpPr/>
          <p:nvPr/>
        </p:nvSpPr>
        <p:spPr>
          <a:xfrm>
            <a:off x="324000" y="1268280"/>
            <a:ext cx="864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вневые дожди губят будущий урожай, смывают плодородный слой почвы. Сильные ветры выдувают мельчайшие частички почвы. Суховеи иссушают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Box 6"/>
          <p:cNvSpPr/>
          <p:nvPr/>
        </p:nvSpPr>
        <p:spPr>
          <a:xfrm>
            <a:off x="1713600" y="692280"/>
            <a:ext cx="602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е природные 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2" descr="http://priroda-yavlenie.ru/images/x_8d4396ce.jpg"/>
          <p:cNvPicPr/>
          <p:nvPr/>
        </p:nvPicPr>
        <p:blipFill>
          <a:blip r:embed="rId1"/>
          <a:srcRect l="0" t="0" r="72" b="0"/>
          <a:stretch/>
        </p:blipFill>
        <p:spPr>
          <a:xfrm>
            <a:off x="1835280" y="3284640"/>
            <a:ext cx="56530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Box 6"/>
          <p:cNvSpPr/>
          <p:nvPr/>
        </p:nvSpPr>
        <p:spPr>
          <a:xfrm>
            <a:off x="1855440" y="189000"/>
            <a:ext cx="557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7"/>
          <p:cNvSpPr/>
          <p:nvPr/>
        </p:nvSpPr>
        <p:spPr>
          <a:xfrm>
            <a:off x="179280" y="90792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орение промышленными и бытовыми отх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2" descr="http://gkh.com.ua/upload/iblock/d85/szpac.jpg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2" descr="C:\Documents and Settings\Катюська\Мои документы\Мои рисунки\2011-12-05, окр  мир\окр  мир 009.jpg"/>
          <p:cNvPicPr/>
          <p:nvPr/>
        </p:nvPicPr>
        <p:blipFill>
          <a:blip r:embed="rId1"/>
          <a:stretch/>
        </p:blipFill>
        <p:spPr>
          <a:xfrm>
            <a:off x="971640" y="0"/>
            <a:ext cx="7121520" cy="42926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692" name="TextBox 7"/>
          <p:cNvSpPr/>
          <p:nvPr/>
        </p:nvSpPr>
        <p:spPr>
          <a:xfrm>
            <a:off x="0" y="4303800"/>
            <a:ext cx="89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ая обработка почвы, неграмотный уход за растениями,  использование больш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а минеральных веществ (удобрени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охимикатов для борьбы с вредителями и сорня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Georgia"/>
              </a:rPr>
              <a:t>Опыт наших предко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4" name="TextBox 3"/>
          <p:cNvSpPr/>
          <p:nvPr/>
        </p:nvSpPr>
        <p:spPr>
          <a:xfrm>
            <a:off x="179280" y="13413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сить мусор, плюнуть на землю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4"/>
          <p:cNvSpPr/>
          <p:nvPr/>
        </p:nvSpPr>
        <p:spPr>
          <a:xfrm>
            <a:off x="1068480" y="1989000"/>
            <a:ext cx="737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вы делали на ровной поверх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5"/>
          <p:cNvSpPr/>
          <p:nvPr/>
        </p:nvSpPr>
        <p:spPr>
          <a:xfrm flipH="1">
            <a:off x="179280" y="26370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ы холмов – для  многолетних тр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6"/>
          <p:cNvSpPr/>
          <p:nvPr/>
        </p:nvSpPr>
        <p:spPr>
          <a:xfrm>
            <a:off x="971640" y="3284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овые отходы,  растительные оста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ывали в компостные ку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8"/>
          <p:cNvSpPr/>
          <p:nvPr/>
        </p:nvSpPr>
        <p:spPr>
          <a:xfrm>
            <a:off x="385560" y="4365720"/>
            <a:ext cx="837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кали пт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ли свойства не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й для борьбы с вре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Georgia"/>
              </a:rPr>
              <a:t>Опыт наших предко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TextBox 4"/>
          <p:cNvSpPr/>
          <p:nvPr/>
        </p:nvSpPr>
        <p:spPr>
          <a:xfrm>
            <a:off x="347040" y="1484280"/>
            <a:ext cx="72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лись приметить «гнилые угл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5"/>
          <p:cNvSpPr/>
          <p:nvPr/>
        </p:nvSpPr>
        <p:spPr>
          <a:xfrm>
            <a:off x="404640" y="2133720"/>
            <a:ext cx="873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ащиты от сильных ветров сажали дере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6"/>
          <p:cNvSpPr/>
          <p:nvPr/>
        </p:nvSpPr>
        <p:spPr>
          <a:xfrm>
            <a:off x="272880" y="3213000"/>
            <a:ext cx="782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ой для задержания снежного пок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или щи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8"/>
          <p:cNvSpPr/>
          <p:nvPr/>
        </p:nvSpPr>
        <p:spPr>
          <a:xfrm>
            <a:off x="702360" y="4365720"/>
            <a:ext cx="595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зили на поля золу и наво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6" name="Picture 2" descr="https://ds04.infourok.ru/uploads/ex/03ba/00158789-34d7f232/hello_html_796e18cd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2" descr="C:\Documents and Settings\Катюська\Мои документы\Мои рисунки\2011-12-05, окр  мир\окр  мир 004.jpg"/>
          <p:cNvPicPr/>
          <p:nvPr/>
        </p:nvPicPr>
        <p:blipFill>
          <a:blip r:embed="rId1"/>
          <a:stretch/>
        </p:blipFill>
        <p:spPr>
          <a:xfrm>
            <a:off x="971640" y="1197000"/>
            <a:ext cx="6913440" cy="5481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659" name="TextBox 5"/>
          <p:cNvSpPr/>
          <p:nvPr/>
        </p:nvSpPr>
        <p:spPr>
          <a:xfrm>
            <a:off x="243000" y="189000"/>
            <a:ext cx="857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те, что вы знае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битателях почв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нистая</a:t>
            </a:r>
            <a:endParaRPr b="0" lang="en-US" sz="6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1" name="Picture 6" descr="C:\Users\79995\Desktop\big-57cac599ff9367028602ad13-57e2abe09877f-1bu5av0.jpg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162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916360" y="260280"/>
            <a:ext cx="352872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Песчаная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3" name="Picture 7" descr="C:\Users\79995\Desktop\osobenosti-pochvu-pesok.jpg"/>
          <p:cNvPicPr/>
          <p:nvPr/>
        </p:nvPicPr>
        <p:blipFill>
          <a:blip r:embed="rId1"/>
          <a:stretch/>
        </p:blipFill>
        <p:spPr>
          <a:xfrm>
            <a:off x="-181080" y="1268280"/>
            <a:ext cx="9525240" cy="4762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273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Сухая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5" name="Picture 7" descr="C:\Users\79995\Desktop\1582092037_18-p-treshchini-v-pustine-29.jp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6058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50403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Глинистая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7" name="Picture 7" descr="C:\Users\79995\Desktop\kachestvo-pochvy-na-dache3-1.jpg"/>
          <p:cNvPicPr/>
          <p:nvPr/>
        </p:nvPicPr>
        <p:blipFill>
          <a:blip r:embed="rId1"/>
          <a:stretch/>
        </p:blipFill>
        <p:spPr>
          <a:xfrm>
            <a:off x="900000" y="1160640"/>
            <a:ext cx="7596360" cy="5697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4"/>
          <p:cNvSpPr/>
          <p:nvPr/>
        </p:nvSpPr>
        <p:spPr>
          <a:xfrm>
            <a:off x="1979640" y="0"/>
            <a:ext cx="504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Чернозё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5" descr="C:\Users\79995\Desktop\i.jpg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84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1" name="Picture 6" descr="Profili pothv"/>
          <p:cNvPicPr/>
          <p:nvPr/>
        </p:nvPicPr>
        <p:blipFill>
          <a:blip r:embed="rId1"/>
          <a:stretch/>
        </p:blipFill>
        <p:spPr>
          <a:xfrm>
            <a:off x="0" y="-325440"/>
            <a:ext cx="9144000" cy="7183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3" name="Picture 6" descr="120103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2:29:18Z</dcterms:created>
  <dc:creator>DNA7 X86</dc:creator>
  <dc:description/>
  <dc:language>en-US</dc:language>
  <cp:lastModifiedBy>79995678691</cp:lastModifiedBy>
  <dcterms:modified xsi:type="dcterms:W3CDTF">2020-12-20T10:16:30Z</dcterms:modified>
  <cp:revision>1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210000000000010243100207f6000400038000</vt:lpwstr>
  </property>
</Properties>
</file>