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D336-3028-46C1-89DC-037287EE79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3989-3594-43F3-B6F8-C259D53BCA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F85-D88B-4066-905F-780C749D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E33-CC0E-4138-AEB2-E9793664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86A-1AEC-49FD-9B40-A61318CB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F2F-970E-4346-BD1B-F5324DC7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4D84-27F2-4569-89C6-88D10B78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34C6-4E43-42B4-8439-467B92A4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2CC1-F5EC-4F32-BA66-46AD8AC4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5583-830A-4268-B640-61455F5F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7FDA-EA66-41BD-941A-CC07D46F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A7A4-FE2B-4D39-921B-CA351DF2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1C80-008E-40E2-AD77-25B3D390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2440-38CB-4DDE-80EC-75385883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DF12-A970-48AD-9BFB-808FE78D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9280-0E16-4270-8450-267E0712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81B9-45D4-44DA-AA28-0A67EC4D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0F24-7E26-4FD0-87BD-EF3FC0DD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D3B5-DE74-438C-A26B-63F695DF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F453D-EBF5-4555-982C-25DD7177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58AE8-6BE1-45FB-85AD-5E74546B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F58B4-ED1B-41A4-AD16-A9F099AE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B02CC-8D96-48CB-A675-1C94B817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5B996-DC9F-4856-8968-72E278A3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1525-314D-45B5-9892-84FDEADD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39653-37C7-4016-BEC6-18DF8937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5CF5E-CBD0-44F0-9AE8-2383EC9C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D6121-0787-43B5-958E-7344D41B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27739-F69D-4493-92EF-1CD90786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CFA88-05E8-4287-B02F-88545404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E98D8-335C-4E87-ACA4-230006B3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B8FC1-9D6A-4A49-AE63-1F9E0298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5B37C-EF6C-4A0F-B289-CACEFA3F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2E311-1B54-49F0-B98C-E3B29214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542D0-CD82-4EB9-8675-1E57C0AE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0A5-06F1-4BE9-B9FE-FDF44EBF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0BE72-9060-481D-9005-1ED44A3E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29107-107C-4205-BCBF-5F484821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E4696-E4B7-4085-AA29-67F12D19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CA96E-178B-4314-BB75-CE69E1AA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73CCC-7D49-4B56-9AD0-7161A0C6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27A75-D647-4941-9F89-2B4BF11E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BEF5B-B019-46CB-8A48-78D181DF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B9631-27B5-464C-A954-8139CEB9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CDABA-3307-482B-9E2F-86A75BF6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4624C-16C7-49A2-A691-9A3E8406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BEB-C249-48CD-8A25-372D1B9A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E5AFF-FF1E-44AD-BC18-2DA7535D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527DD-45C8-4CFD-8D08-2C0DB44B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1DF1A-7977-453B-8573-77214D1D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62E8A-B99F-491D-B448-F91042FC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8505B-6155-46AB-B958-254D1714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A49EE-CCCF-42DA-BB1E-F0493FF3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40C89-38E8-4ECD-A35B-9C22F73C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CA22E-A862-465D-B6BE-4191D897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771A4-CF63-4A3B-AEDE-A3538926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F9E81-25F0-405A-954B-CFB51EA3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975-9308-4D4B-BA08-DC69F60D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841B1-D2C7-40D5-A658-9DF9E82A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3F15-E7EA-4EED-871B-7FCF23D1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84C-E0C1-4000-B17A-A530B4E1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D3CE-BB16-4516-8AA3-ACCC5450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A861-FFD6-4836-8C97-5AD5009CCFE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8CB3-CAFA-4FEB-B8DA-93A2B6E78D5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174E-7A17-4BCD-84FD-16F978395CA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F9BC-F0B6-4072-A3D3-B3BF1FF4BB2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4C88-6463-468B-8B0A-9C7BE17E153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Ёжик на полянке\103790211_large_79695346_large_ezhik_2.jpg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516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Users\79995\Desktop\Ёжик на полянке\79695358_yozhik_1.jpg"/>
          <p:cNvPicPr/>
          <p:nvPr/>
        </p:nvPicPr>
        <p:blipFill>
          <a:blip r:embed="rId3"/>
          <a:stretch/>
        </p:blipFill>
        <p:spPr>
          <a:xfrm>
            <a:off x="4788000" y="1484280"/>
            <a:ext cx="4113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Ёжик на полянке\79695346_ezhik_2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0560" cy="50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79995\Desktop\Ёжик на полянке\79695356_yozhik2a.jpg"/>
          <p:cNvPicPr/>
          <p:nvPr/>
        </p:nvPicPr>
        <p:blipFill>
          <a:blip r:embed="rId2"/>
          <a:stretch/>
        </p:blipFill>
        <p:spPr>
          <a:xfrm>
            <a:off x="457200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79995\Desktop\Ёжик на полянке\79695358_yozhik_1.jpg"/>
          <p:cNvPicPr/>
          <p:nvPr/>
        </p:nvPicPr>
        <p:blipFill>
          <a:blip r:embed="rId1"/>
          <a:stretch/>
        </p:blipFill>
        <p:spPr>
          <a:xfrm>
            <a:off x="250920" y="1397160"/>
            <a:ext cx="4392360" cy="5460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79995\Desktop\Ёжик на полянке\101312675_5177462_yozhik_1a.jpg"/>
          <p:cNvPicPr/>
          <p:nvPr/>
        </p:nvPicPr>
        <p:blipFill>
          <a:blip r:embed="rId2"/>
          <a:stretch/>
        </p:blipFill>
        <p:spPr>
          <a:xfrm>
            <a:off x="4716360" y="1096920"/>
            <a:ext cx="4103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Users\79995\Desktop\Ёжик на полянке 2\a289aaeead17cc1b951f22fd15d9a73e.jpg"/>
          <p:cNvPicPr/>
          <p:nvPr/>
        </p:nvPicPr>
        <p:blipFill>
          <a:blip r:embed="rId1"/>
          <a:stretch/>
        </p:blipFill>
        <p:spPr>
          <a:xfrm>
            <a:off x="826920" y="801720"/>
            <a:ext cx="698508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6T12:31:25Z</dcterms:modified>
  <cp:revision>38</cp:revision>
  <dc:subject/>
  <dc:title>ТВОРЧЕСКАЯ ДЕЯТЕЛЬНОСТЬ: ЗНАКОМСТВО С ТЕХНИКОЙ ИЗОНИТЬ</dc:title>
</cp:coreProperties>
</file>