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8.jpeg" ContentType="image/jpeg"/>
  <Override PartName="/ppt/media/image5.png" ContentType="image/png"/>
  <Override PartName="/ppt/media/image7.jpeg" ContentType="image/jpeg"/>
  <Override PartName="/ppt/media/image18.png" ContentType="image/png"/>
  <Override PartName="/ppt/media/image6.png" ContentType="image/png"/>
  <Override PartName="/ppt/media/image21.jpeg" ContentType="image/jpeg"/>
  <Override PartName="/ppt/media/image16.png" ContentType="image/png"/>
  <Override PartName="/ppt/media/image20.jpeg" ContentType="image/jpeg"/>
  <Override PartName="/ppt/media/image19.jpeg" ContentType="image/jpeg"/>
  <Override PartName="/ppt/media/image10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1.jpeg" ContentType="image/jpeg"/>
  <Override PartName="/ppt/media/image22.jpeg" ContentType="image/jpeg"/>
  <Override PartName="/ppt/media/image3.png" ContentType="image/png"/>
  <Override PartName="/ppt/media/image4.jpeg" ContentType="image/jpeg"/>
  <Override PartName="/ppt/media/image2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936D5-51A0-47C5-85CC-FF9967DBE39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DE516-56BB-4711-B3BA-7F03C10898C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55279-D4D1-4A05-AC34-03BE61AB9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A242A-D28F-4295-8E7F-36513DAB9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FA2A8-21B1-4ADC-87A7-345A26BBE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D4888-3FF2-4373-90E8-8435AB5DC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B28BF-5A5D-4605-8B2C-A3D7757F5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68949-FD8D-4700-B1B8-85DBF1997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CF4B2-2EA6-4419-9F99-3AA506D29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7DBF7-3316-438A-86C9-C21EFDE31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E2E44-B647-47C5-9E5F-B90128455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0E832-6743-4D0E-8413-79310033C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C65F1-9A49-4558-983B-27B941462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3BDF8-E958-4A34-A3A7-F52C2F8C4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4CD41-E3BB-454C-8385-9BD3B6F88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47BFD-C507-43C7-A21A-A8CFCF8E3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0D23F-EAE4-4CA3-828C-87967A93B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804DD-B2D8-435E-875D-EBF59821C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34AB1-9D5A-44E5-A51F-AF0D1A49F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CBFEE9-2AB1-4CAD-8E28-13DE9296F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E34178-F239-48D4-B335-8869B8EB1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21A262-80FA-4835-A00C-4A8929466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F49CED-B65C-4D09-9F4F-AE16E3412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28E298-38DE-4563-866A-8027C7875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6C25C-4C22-4A6B-8640-DB657BEB7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91A740-401D-4051-A25F-A59E02201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5AEF9D-B90B-49B6-82E8-F62E614FE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C72D85-48FA-4384-81BC-ACDF45CFA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43EB1C-E2DA-47D0-94AF-0B4CD05CD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D59B27-8030-42FD-8A80-4ACCFDE03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D11151-621B-463B-B713-70290A41B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EEC500-2D79-4459-9DE1-F2ABF36C5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CB5A6C-4C02-42D7-9D1E-C9B6BEA92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A664D7-469F-49E6-804E-C782F7EF1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AF0FF9-A5C6-41E8-B6C7-F4FD15309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B1AA2-53DC-40B3-9249-B6F8FCB33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8143F3-BC09-4B4F-89BC-C7C57A6E3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6E8778-3B5D-4988-967D-DC4525674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71326D-715F-4B45-8518-690507801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86AE9D-4122-4F64-80F1-D6D795A20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F22387-3892-4071-940D-861DC4A64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2320F2-B510-4868-A2AC-A1231EAC4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6F8E02-0E8A-41BF-A462-065709A62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0D0B1F-D991-468B-A29C-432846627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4C68AA-B771-4012-B139-9E55C9E37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1E51BD-3AE5-498A-8663-0C6E4287D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50A96-20F3-43D4-8FD1-EECFC9257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04839D-6AD0-41A9-9151-DC5BCE5C4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344BF5-6567-4EF7-B49D-B7F68F6C1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1CAB46-1185-4473-A2F6-0D421DEF8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C1A203-7192-4511-96D7-74FE95B3C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F13AA6-0C6B-43C3-AF2B-C234B22F6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5BFEC8-A68B-401C-B908-C4BEFFF18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4E5D4A-06BF-4FB1-B8CB-85585867D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EBE0EE-71A9-4CB7-B5E5-782ACAFA9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595DC6-A3BB-41F3-B587-DF8DFD908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37B82C-59F5-42FC-9058-871EB7C07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8BEDE-CDE5-470F-88F1-B70D90B17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B11DD9-4BFC-4058-A8D6-2E8C294BF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1DD6C-ECEF-4E89-95D1-9CB122798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4EB6C-0865-4670-8BFD-BAA201272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2AA7A-D6C4-411B-AB6F-663119BB4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571B6-E076-4121-BDC1-1828B9FD14BA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91A8E-5691-4EA4-8749-C03EE1CB93BA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1F716-8FFC-4417-B7C6-E32F5196E395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8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9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0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6668D-6F98-40CE-954C-FAABF96ED5C5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9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9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0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53008-8729-4F87-851C-F8F04B5FD823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Заголовок 1" descr=""/>
          <p:cNvPicPr/>
          <p:nvPr/>
        </p:nvPicPr>
        <p:blipFill>
          <a:blip r:embed="rId1"/>
          <a:stretch/>
        </p:blipFill>
        <p:spPr>
          <a:xfrm>
            <a:off x="317520" y="-6480"/>
            <a:ext cx="9094680" cy="141444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5" descr="C:\Users\79995\Desktop\Ёжик на полянке\103790211_large_79695346_large_ezhik_2.jpg"/>
          <p:cNvPicPr/>
          <p:nvPr/>
        </p:nvPicPr>
        <p:blipFill>
          <a:blip r:embed="rId2"/>
          <a:stretch/>
        </p:blipFill>
        <p:spPr>
          <a:xfrm>
            <a:off x="395280" y="1484280"/>
            <a:ext cx="4105440" cy="516096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6" descr="C:\Users\79995\Desktop\Ёжик на полянке\79695358_yozhik_1.jpg"/>
          <p:cNvPicPr/>
          <p:nvPr/>
        </p:nvPicPr>
        <p:blipFill>
          <a:blip r:embed="rId3"/>
          <a:stretch/>
        </p:blipFill>
        <p:spPr>
          <a:xfrm>
            <a:off x="4788000" y="1484280"/>
            <a:ext cx="411300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50560" y="476280"/>
            <a:ext cx="7443720" cy="1071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00000"/>
                </a:solidFill>
                <a:latin typeface="Calibri"/>
              </a:rPr>
              <a:t>МАТЕРИАЛЫ И ИНСТРУМЕНТЫ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6" name="Прямоугольник 3"/>
          <p:cNvSpPr/>
          <p:nvPr/>
        </p:nvSpPr>
        <p:spPr>
          <a:xfrm>
            <a:off x="142920" y="1285920"/>
            <a:ext cx="3643200" cy="50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Цветной карт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Нитки: </a:t>
            </a:r>
            <a:r>
              <a:rPr b="1" i="1" lang="ru-RU" sz="2400" spc="-1" strike="noStrike">
                <a:solidFill>
                  <a:srgbClr val="262626"/>
                </a:solidFill>
                <a:latin typeface="Constantia"/>
                <a:ea typeface="Times New Roman"/>
              </a:rPr>
              <a:t>ирис, мулине, обычные швей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Ножниц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Иг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Линей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Скотч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3" descr=""/>
          <p:cNvPicPr/>
          <p:nvPr/>
        </p:nvPicPr>
        <p:blipFill>
          <a:blip r:embed="rId1"/>
          <a:stretch/>
        </p:blipFill>
        <p:spPr>
          <a:xfrm>
            <a:off x="4932360" y="189000"/>
            <a:ext cx="2928960" cy="203976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4" descr=""/>
          <p:cNvPicPr/>
          <p:nvPr/>
        </p:nvPicPr>
        <p:blipFill>
          <a:blip r:embed="rId2"/>
          <a:stretch/>
        </p:blipFill>
        <p:spPr>
          <a:xfrm>
            <a:off x="5867280" y="2349360"/>
            <a:ext cx="2778120" cy="192888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6" descr=""/>
          <p:cNvPicPr/>
          <p:nvPr/>
        </p:nvPicPr>
        <p:blipFill>
          <a:blip r:embed="rId3"/>
          <a:stretch/>
        </p:blipFill>
        <p:spPr>
          <a:xfrm>
            <a:off x="2484360" y="3716280"/>
            <a:ext cx="1604880" cy="257184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7" descr=""/>
          <p:cNvPicPr/>
          <p:nvPr/>
        </p:nvPicPr>
        <p:blipFill>
          <a:blip r:embed="rId4"/>
          <a:stretch/>
        </p:blipFill>
        <p:spPr>
          <a:xfrm>
            <a:off x="5724360" y="4365720"/>
            <a:ext cx="2894040" cy="192888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8" descr=""/>
          <p:cNvPicPr/>
          <p:nvPr/>
        </p:nvPicPr>
        <p:blipFill>
          <a:blip r:embed="rId5"/>
          <a:stretch/>
        </p:blipFill>
        <p:spPr>
          <a:xfrm>
            <a:off x="4211640" y="3789360"/>
            <a:ext cx="1282680" cy="285768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9" descr=""/>
          <p:cNvPicPr/>
          <p:nvPr/>
        </p:nvPicPr>
        <p:blipFill>
          <a:blip r:embed="rId6"/>
          <a:stretch/>
        </p:blipFill>
        <p:spPr>
          <a:xfrm>
            <a:off x="3564000" y="2421000"/>
            <a:ext cx="213660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39280" y="259920"/>
            <a:ext cx="7029720" cy="1197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Calibri"/>
              </a:rPr>
              <a:t>Элементы узора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grpSp>
        <p:nvGrpSpPr>
          <p:cNvPr id="264" name="Group 8"/>
          <p:cNvGrpSpPr/>
          <p:nvPr/>
        </p:nvGrpSpPr>
        <p:grpSpPr>
          <a:xfrm>
            <a:off x="3745080" y="2933640"/>
            <a:ext cx="1653840" cy="990720"/>
            <a:chOff x="3745080" y="2933640"/>
            <a:chExt cx="1653840" cy="990720"/>
          </a:xfrm>
        </p:grpSpPr>
        <p:sp>
          <p:nvSpPr>
            <p:cNvPr id="265" name="Rectangle 5"/>
            <p:cNvSpPr/>
            <p:nvPr/>
          </p:nvSpPr>
          <p:spPr>
            <a:xfrm>
              <a:off x="3745080" y="29336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Rectangle 6"/>
            <p:cNvSpPr/>
            <p:nvPr/>
          </p:nvSpPr>
          <p:spPr>
            <a:xfrm>
              <a:off x="3745080" y="2933640"/>
              <a:ext cx="165384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663300"/>
                  </a:solidFill>
                  <a:latin typeface="Arial"/>
                </a:rPr>
                <a:t>  </a:t>
              </a:r>
              <a:r>
                <a:rPr b="0" lang="ru-RU" sz="5900" spc="-1" strike="noStrike">
                  <a:solidFill>
                    <a:srgbClr val="663300"/>
                  </a:solidFill>
                  <a:latin typeface="Arial"/>
                </a:rPr>
                <a:t> </a:t>
              </a:r>
              <a:r>
                <a:rPr b="0" lang="ru-RU" sz="1800" spc="-1" strike="noStrike">
                  <a:solidFill>
                    <a:srgbClr val="663300"/>
                  </a:solidFill>
                  <a:latin typeface="Arial"/>
                </a:rPr>
                <a:t>            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67" name="Picture 51" descr="1"/>
          <p:cNvPicPr/>
          <p:nvPr/>
        </p:nvPicPr>
        <p:blipFill>
          <a:blip r:embed="rId1"/>
          <a:stretch/>
        </p:blipFill>
        <p:spPr>
          <a:xfrm>
            <a:off x="2627280" y="2205000"/>
            <a:ext cx="3849840" cy="3897360"/>
          </a:xfrm>
          <a:prstGeom prst="rect">
            <a:avLst/>
          </a:prstGeom>
          <a:ln w="0">
            <a:noFill/>
          </a:ln>
        </p:spPr>
      </p:pic>
      <p:sp>
        <p:nvSpPr>
          <p:cNvPr id="268" name="Text Box 52"/>
          <p:cNvSpPr/>
          <p:nvPr/>
        </p:nvSpPr>
        <p:spPr>
          <a:xfrm>
            <a:off x="1476360" y="162864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onstantia"/>
              </a:rPr>
              <a:t>Ду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54"/>
          <p:cNvSpPr/>
          <p:nvPr/>
        </p:nvSpPr>
        <p:spPr>
          <a:xfrm flipH="1">
            <a:off x="5940000" y="2924280"/>
            <a:ext cx="576360" cy="115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55"/>
          <p:cNvSpPr/>
          <p:nvPr/>
        </p:nvSpPr>
        <p:spPr>
          <a:xfrm>
            <a:off x="6516720" y="2565360"/>
            <a:ext cx="1150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onstantia"/>
              </a:rPr>
              <a:t>Кру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56"/>
          <p:cNvSpPr/>
          <p:nvPr/>
        </p:nvSpPr>
        <p:spPr>
          <a:xfrm flipV="1">
            <a:off x="2843280" y="5949720"/>
            <a:ext cx="180000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57"/>
          <p:cNvSpPr/>
          <p:nvPr/>
        </p:nvSpPr>
        <p:spPr>
          <a:xfrm>
            <a:off x="1547640" y="5877000"/>
            <a:ext cx="1151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onstantia"/>
              </a:rPr>
              <a:t>Уго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58"/>
          <p:cNvSpPr/>
          <p:nvPr/>
        </p:nvSpPr>
        <p:spPr>
          <a:xfrm>
            <a:off x="2627280" y="2205000"/>
            <a:ext cx="43200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9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9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300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3000"/>
                            </p:stCondLst>
                            <p:childTnLst>
                              <p:par>
                                <p:cTn id="3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9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Picture 1" descr="tb_igly"/>
          <p:cNvPicPr/>
          <p:nvPr/>
        </p:nvPicPr>
        <p:blipFill>
          <a:blip r:embed="rId1"/>
          <a:stretch/>
        </p:blipFill>
        <p:spPr>
          <a:xfrm>
            <a:off x="7072200" y="500040"/>
            <a:ext cx="1862280" cy="2219400"/>
          </a:xfrm>
          <a:prstGeom prst="rect">
            <a:avLst/>
          </a:prstGeom>
          <a:ln w="0">
            <a:noFill/>
          </a:ln>
        </p:spPr>
      </p:pic>
      <p:sp>
        <p:nvSpPr>
          <p:cNvPr id="275" name="Rectangle 3"/>
          <p:cNvSpPr/>
          <p:nvPr/>
        </p:nvSpPr>
        <p:spPr>
          <a:xfrm>
            <a:off x="0" y="44640"/>
            <a:ext cx="9001080" cy="62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b4513"/>
                </a:solidFill>
                <a:latin typeface="Times New Roman"/>
                <a:ea typeface="Times New Roman"/>
              </a:rPr>
              <a:t>ПРАВИЛА ТЕХНИКИ БЕЗОПАСНОСТИ  ПРИ РАБОТЕ 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b4513"/>
                </a:solidFill>
                <a:latin typeface="Times New Roman"/>
                <a:ea typeface="Times New Roman"/>
              </a:rPr>
              <a:t>ИГОЛКАМИ И БУЛАВК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Храните иголки и булавки в игольнице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Не берите иголки  и булавки в ро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Не пользуйтесь при работе ржавыми  иглами и булавк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Во время работы не вкалывайте иголки и булавки в одежд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Не перекусывайте нитку зубами — можно испортить эмаль и поранить губ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До и после работы проверь количество иг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Игла всегда должна быть с ниткой для того, чтобы ее легче было найти, если она потеряе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Сломанную иглу надо завернуть в плотную бумагу и выброс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2"/>
          <p:cNvSpPr/>
          <p:nvPr/>
        </p:nvSpPr>
        <p:spPr>
          <a:xfrm>
            <a:off x="500040" y="14256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b4513"/>
                </a:solidFill>
                <a:latin typeface="Arial"/>
                <a:ea typeface="Times New Roman"/>
              </a:rPr>
              <a:t>ПРАВИЛА ТЕХНИКИ БЕЗОПАСНОСТИ ПРИ РАБОТЕ С НОЖНИЦ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Picture 1" descr="tb_nozhnicy"/>
          <p:cNvPicPr/>
          <p:nvPr/>
        </p:nvPicPr>
        <p:blipFill>
          <a:blip r:embed="rId1"/>
          <a:stretch/>
        </p:blipFill>
        <p:spPr>
          <a:xfrm>
            <a:off x="7358040" y="4071960"/>
            <a:ext cx="1531800" cy="1143000"/>
          </a:xfrm>
          <a:prstGeom prst="rect">
            <a:avLst/>
          </a:prstGeom>
          <a:ln w="0">
            <a:noFill/>
          </a:ln>
        </p:spPr>
      </p:pic>
      <p:sp>
        <p:nvSpPr>
          <p:cNvPr id="278" name="Rectangle 3"/>
          <p:cNvSpPr/>
          <p:nvPr/>
        </p:nvSpPr>
        <p:spPr>
          <a:xfrm>
            <a:off x="214200" y="928800"/>
            <a:ext cx="871560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333333"/>
                </a:solidFill>
                <a:latin typeface="Arial"/>
                <a:ea typeface="Times New Roman"/>
              </a:rPr>
              <a:t>Во время работы быть внимательным, не отвлекаться и не отвлекать других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333333"/>
                </a:solidFill>
                <a:latin typeface="Arial"/>
                <a:ea typeface="Times New Roman"/>
              </a:rPr>
              <a:t>Храните ножницы в определенном   месте, кладите их сомкнутыми  острыми концами от себя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333333"/>
                </a:solidFill>
                <a:latin typeface="Arial"/>
                <a:ea typeface="Times New Roman"/>
              </a:rPr>
              <a:t>Передавайте ножницы нужно кольцами вперед с сомкнутыми лезвиями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333333"/>
                </a:solidFill>
                <a:latin typeface="Arial"/>
                <a:ea typeface="Times New Roman"/>
              </a:rPr>
              <a:t>Нельзя резать на ходу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333333"/>
                </a:solidFill>
                <a:latin typeface="Arial"/>
                <a:ea typeface="Times New Roman"/>
              </a:rPr>
              <a:t>При работе с ножницами необходимо следить за движением и положением лезвий во время работы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2"/>
          <p:cNvSpPr/>
          <p:nvPr/>
        </p:nvSpPr>
        <p:spPr>
          <a:xfrm>
            <a:off x="0" y="214200"/>
            <a:ext cx="7429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b4513"/>
                </a:solidFill>
                <a:latin typeface="Arial"/>
                <a:ea typeface="Times New Roman"/>
              </a:rPr>
              <a:t>ОХРАНА ТРУДА. ПРАВИЛЬНАЯ ПОСАДКА ВО ВРЕМЯ РАБО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Picture 1" descr="posadka"/>
          <p:cNvPicPr/>
          <p:nvPr/>
        </p:nvPicPr>
        <p:blipFill>
          <a:blip r:embed="rId1"/>
          <a:stretch/>
        </p:blipFill>
        <p:spPr>
          <a:xfrm>
            <a:off x="7429680" y="0"/>
            <a:ext cx="1660320" cy="1571760"/>
          </a:xfrm>
          <a:prstGeom prst="rect">
            <a:avLst/>
          </a:prstGeom>
          <a:ln w="0">
            <a:noFill/>
          </a:ln>
        </p:spPr>
      </p:pic>
      <p:sp>
        <p:nvSpPr>
          <p:cNvPr id="281" name="Rectangle 3"/>
          <p:cNvSpPr/>
          <p:nvPr/>
        </p:nvSpPr>
        <p:spPr>
          <a:xfrm>
            <a:off x="0" y="1314360"/>
            <a:ext cx="9001080" cy="55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Ноги должны твердо опираться всей подошвой об пол, так как при другом положении ног нарушается кровообраще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Свет должен падать слева или сперед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Нельзя опираться грудью на сто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Руки должны быть согнуты в локтях и отставать от корпуса более чем на 10 с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Расстояние от глаз до изделия или детали должно быть 30-40 с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В процессе работы следует периодически менять положение корпуса (из слегка согнутого к выпрямленному и обратно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TextBox 3"/>
          <p:cNvSpPr/>
          <p:nvPr/>
        </p:nvSpPr>
        <p:spPr>
          <a:xfrm>
            <a:off x="324000" y="404640"/>
            <a:ext cx="88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6a3"/>
                </a:solidFill>
                <a:latin typeface="Constantia"/>
              </a:rPr>
              <a:t>Пример работы «Ёжик на поляне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Picture 4" descr="C:\Users\79995\Desktop\Ёжик на полянке\79695346_ezhik_2.jpg"/>
          <p:cNvPicPr/>
          <p:nvPr/>
        </p:nvPicPr>
        <p:blipFill>
          <a:blip r:embed="rId1"/>
          <a:stretch/>
        </p:blipFill>
        <p:spPr>
          <a:xfrm>
            <a:off x="324000" y="1413000"/>
            <a:ext cx="4030560" cy="506880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5" descr="C:\Users\79995\Desktop\Ёжик на полянке\79695356_yozhik2a.jpg"/>
          <p:cNvPicPr/>
          <p:nvPr/>
        </p:nvPicPr>
        <p:blipFill>
          <a:blip r:embed="rId2"/>
          <a:stretch/>
        </p:blipFill>
        <p:spPr>
          <a:xfrm>
            <a:off x="4572000" y="1052640"/>
            <a:ext cx="4284720" cy="54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TextBox 3"/>
          <p:cNvSpPr/>
          <p:nvPr/>
        </p:nvSpPr>
        <p:spPr>
          <a:xfrm>
            <a:off x="324000" y="404640"/>
            <a:ext cx="88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6a3"/>
                </a:solidFill>
                <a:latin typeface="Arial"/>
              </a:rPr>
              <a:t>Пример работы «Ёжик на поляне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Picture 5" descr="C:\Users\79995\Desktop\Ёжик на полянке\79695358_yozhik_1.jpg"/>
          <p:cNvPicPr/>
          <p:nvPr/>
        </p:nvPicPr>
        <p:blipFill>
          <a:blip r:embed="rId1"/>
          <a:stretch/>
        </p:blipFill>
        <p:spPr>
          <a:xfrm>
            <a:off x="250920" y="1397160"/>
            <a:ext cx="4392360" cy="546084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6" descr="C:\Users\79995\Desktop\Ёжик на полянке\101312675_5177462_yozhik_1a.jpg"/>
          <p:cNvPicPr/>
          <p:nvPr/>
        </p:nvPicPr>
        <p:blipFill>
          <a:blip r:embed="rId2"/>
          <a:stretch/>
        </p:blipFill>
        <p:spPr>
          <a:xfrm>
            <a:off x="4716360" y="1096920"/>
            <a:ext cx="410364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TextBox 1"/>
          <p:cNvSpPr/>
          <p:nvPr/>
        </p:nvSpPr>
        <p:spPr>
          <a:xfrm>
            <a:off x="395280" y="260280"/>
            <a:ext cx="839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6a3"/>
                </a:solidFill>
                <a:latin typeface="Constantia"/>
              </a:rPr>
              <a:t>Схема для практической рабо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Picture 4" descr="C:\Users\79995\Desktop\Ёжик на полянке 2\a289aaeead17cc1b951f22fd15d9a73e.jpg"/>
          <p:cNvPicPr/>
          <p:nvPr/>
        </p:nvPicPr>
        <p:blipFill>
          <a:blip r:embed="rId1"/>
          <a:stretch/>
        </p:blipFill>
        <p:spPr>
          <a:xfrm>
            <a:off x="826920" y="801720"/>
            <a:ext cx="6985080" cy="605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11T18:40:46Z</dcterms:created>
  <dc:creator>Екатерина</dc:creator>
  <dc:description/>
  <dc:language>en-US</dc:language>
  <cp:lastModifiedBy>79995678691</cp:lastModifiedBy>
  <dcterms:modified xsi:type="dcterms:W3CDTF">2020-12-06T12:31:25Z</dcterms:modified>
  <cp:revision>38</cp:revision>
  <dc:subject/>
  <dc:title>ТВОРЧЕСКАЯ ДЕЯТЕЛЬНОСТЬ: ЗНАКОМСТВО С ТЕХНИКОЙ ИЗОНИТЬ</dc:title>
</cp:coreProperties>
</file>