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8921-D26D-49B9-AB3B-035CD35074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1244-21B2-454D-B41E-17E69370A9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DC68-2959-46DB-A7B6-C819F7A8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6CE7-CDC3-4D6B-B2E1-7F89AE57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38D5-8D1A-413A-A99F-88E6FEF00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9915-C64E-42A0-BC4C-4A9EBC57E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BE8E-4A85-49EE-8E00-7F9B8911B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74E3-1874-45C9-ACCA-306912D0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7FBA-B205-4322-AF6B-4C0E74C7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AC08-79D3-4C0F-BE91-BD476ACF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48CA-A768-456C-B8A5-748BFA61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CA01-230D-4442-AA6F-4C9E26AB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041A-18E4-40DD-819B-28F10D97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FFEA-8309-4B0D-B02B-F8916280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5CF3-10C1-41EA-8F52-65DE573D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2398-0622-4341-8E06-67B50E75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23B0-23DB-4063-B32C-8F738BCA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4FE8-31B0-433E-89C3-37224C852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9FBC-DCDB-44F1-9334-4249B052C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658C9-D5C8-4CDF-A3BD-82D1B4D4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97090-C36C-46A2-8842-AA13E301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22A22-FD35-4991-BC0C-E86B4FDB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10BB8-47C3-470F-867A-FF854EC5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999B2-6E59-4F71-8A21-CA7B4BB7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8CBF-844E-40EF-94B2-8E41BA38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12ED6-5750-4E24-BA84-814A8D80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0D401-43A8-4A73-B0B0-18B3DC1F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29957-1FD9-4D53-A2D2-4AF5B22E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00C76-DD0A-440C-A9B5-357DE68C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9987A-5585-4F7B-AC97-3E0DA0C6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34533-2FD8-4E85-854A-2629E98B3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3DBB0-B5D6-4501-82A3-BFC152B96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75A11-C7BF-4D77-ADBD-B10AB380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38715-19EF-4F05-8387-B8549799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FA0B2-879D-4A9A-AD49-B45F7ABF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F8C9-5648-4722-A466-E7AC6ABF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55572-B9B9-4EEA-9361-D828A683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B6535-7FFF-43F8-8DC5-F4A62CF7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88F41-93B4-4976-B7AF-F12D3DE4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46C68-BBAC-49D1-B36A-7DD5CD2F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840CF-8859-42C6-8CD4-DDD37D89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CDD5F-90D6-439E-B9CC-5BEF2140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ACA7B-7328-4621-81F2-88FA5346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0F508-0023-4F4B-8A83-5D3793B10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B6DAD-F2E3-4365-8E36-4704141A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7544F-7A35-4085-BA69-7D2F1C697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B93C-2285-4755-BB3C-A709CC4D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12CCD-D6C5-4FC2-95B0-B3E3E88C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7EC9C-3813-43F9-840B-679E1AB2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7E9D3-04BE-4A48-8B56-4432A8EA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BAFB6-F903-49D6-ACAF-ECB35FDA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682A4-61A0-49A4-8E69-A9A0A50C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4BA83-556F-4EBE-821D-D769F8A2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246F1-B3F3-4E40-8223-317C6EC0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76D05-0924-4F08-9F45-7661AF74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155DE-0F94-4157-A7DB-595E3560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7C7E1-E158-4EA2-A308-79FBC285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C402-A506-447D-9791-A68AD60F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83B26-0A91-43DE-BAB6-16C583E1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68CC-67D7-4C47-B5A2-169999D9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2407-5A98-4B51-981E-B4A13D4E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424F-6862-4B41-97A2-1181F64D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0359-F722-4545-BDD0-71C73096E5D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8E76-C2C6-40B5-B9D5-90465DEA24F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C8E1-22C5-4244-8722-794A08D1A75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22E6-F8A6-4701-B60A-3EB6B8D9D57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245E-3BD1-41B1-82E6-4A7D2F2BCCE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317520" y="-6480"/>
            <a:ext cx="9094680" cy="1414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Users\79995\Desktop\Ёжик на полянке\103790211_large_79695346_large_ezhik_2.jpg"/>
          <p:cNvPicPr/>
          <p:nvPr/>
        </p:nvPicPr>
        <p:blipFill>
          <a:blip r:embed="rId2"/>
          <a:stretch/>
        </p:blipFill>
        <p:spPr>
          <a:xfrm>
            <a:off x="395280" y="1484280"/>
            <a:ext cx="4105440" cy="5160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C:\Users\79995\Desktop\Ёжик на полянке\79695358_yozhik_1.jpg"/>
          <p:cNvPicPr/>
          <p:nvPr/>
        </p:nvPicPr>
        <p:blipFill>
          <a:blip r:embed="rId3"/>
          <a:stretch/>
        </p:blipFill>
        <p:spPr>
          <a:xfrm>
            <a:off x="4788000" y="1484280"/>
            <a:ext cx="4113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02972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5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Users\79995\Desktop\Ёжик на полянке\79695346_ezhik_2.jpg"/>
          <p:cNvPicPr/>
          <p:nvPr/>
        </p:nvPicPr>
        <p:blipFill>
          <a:blip r:embed="rId1"/>
          <a:stretch/>
        </p:blipFill>
        <p:spPr>
          <a:xfrm>
            <a:off x="324000" y="1413000"/>
            <a:ext cx="4030560" cy="5068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Users\79995\Desktop\Ёжик на полянке\79695356_yozhik2a.jpg"/>
          <p:cNvPicPr/>
          <p:nvPr/>
        </p:nvPicPr>
        <p:blipFill>
          <a:blip r:embed="rId2"/>
          <a:stretch/>
        </p:blipFill>
        <p:spPr>
          <a:xfrm>
            <a:off x="4572000" y="1052640"/>
            <a:ext cx="4284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Arial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C:\Users\79995\Desktop\Ёжик на полянке\79695358_yozhik_1.jpg"/>
          <p:cNvPicPr/>
          <p:nvPr/>
        </p:nvPicPr>
        <p:blipFill>
          <a:blip r:embed="rId1"/>
          <a:stretch/>
        </p:blipFill>
        <p:spPr>
          <a:xfrm>
            <a:off x="250920" y="1397160"/>
            <a:ext cx="4392360" cy="5460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C:\Users\79995\Desktop\Ёжик на полянке\101312675_5177462_yozhik_1a.jpg"/>
          <p:cNvPicPr/>
          <p:nvPr/>
        </p:nvPicPr>
        <p:blipFill>
          <a:blip r:embed="rId2"/>
          <a:stretch/>
        </p:blipFill>
        <p:spPr>
          <a:xfrm>
            <a:off x="4716360" y="1096920"/>
            <a:ext cx="4103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1"/>
          <p:cNvSpPr/>
          <p:nvPr/>
        </p:nvSpPr>
        <p:spPr>
          <a:xfrm>
            <a:off x="395280" y="26028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C:\Users\79995\Desktop\Ёжик на полянке 2\a289aaeead17cc1b951f22fd15d9a73e.jpg"/>
          <p:cNvPicPr/>
          <p:nvPr/>
        </p:nvPicPr>
        <p:blipFill>
          <a:blip r:embed="rId1"/>
          <a:stretch/>
        </p:blipFill>
        <p:spPr>
          <a:xfrm>
            <a:off x="826920" y="801720"/>
            <a:ext cx="698508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2-06T12:31:25Z</dcterms:modified>
  <cp:revision>38</cp:revision>
  <dc:subject/>
  <dc:title>ТВОРЧЕСКАЯ ДЕЯТЕЛЬНОСТЬ: ЗНАКОМСТВО С ТЕХНИКОЙ ИЗОНИТЬ</dc:title>
</cp:coreProperties>
</file>