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png" ContentType="image/pn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ABB8-E49C-4813-8858-43C48F68C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8421-56A9-4896-A591-7782ABFCD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D46B-C279-4F88-BEAB-60AE2ED67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A419-A7B4-4360-8E88-38D7DED64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167A2-8E0E-4FE1-A1B7-6CD7FF7CE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8E822-979E-498F-A327-0B4D27472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B01FC-C992-43E7-B31F-B6DE269CE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EBA9C-70D7-4E2E-9AF0-D537311A8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15757-A879-4265-9516-914F62D8F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4D6B4-43F0-4522-A68D-FB7EBAE6A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9F57B-7A85-4C7E-A8D6-758C5E421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942C-BCFA-40CF-ABC3-BEB42BF61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2A4D0-B9E6-4069-8FA6-4A2FDE09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5C485-C1D4-471D-BCB7-968F9207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C0649-8E87-4DFD-822E-D7DFBE83B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BFB34-A95F-44EB-8479-A1165CCE3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B1BE1-2951-4060-A5D7-0F0C4EB1C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4B0E8-3C1E-498A-858F-AF43E1EEF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3D9EA-489C-44D7-B5D5-5DC645958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F65D2-77F0-4534-8CB9-7B49F14E3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1D9AF-4D30-4472-B880-A254DD2F4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FDE7B-F16C-408D-877B-68758245D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B51C-8F22-4EF5-943D-5D8A40BF2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2675F-67CA-4411-BB27-D34692D66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3C523-3542-4087-A054-683AB5564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F4D50-9FA4-4E06-8807-FCEBDE1EC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AAADB-27E2-4F7E-AF4E-F750516F0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84CD4-1251-4634-BF3A-7F29BDD3C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1A5C3-A7DF-4E81-9409-660785980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8C132-B9F8-4C3E-8DC4-6416D7701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D8A47-F7CC-4FCB-BEE5-325D4F064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E0ADF-5C2A-442C-8469-1FFD7BAA2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F22C9-8605-4B06-8594-052F87B66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2F15-4540-4C19-8682-97053DA1E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FC2B7-EA18-4B57-8A2F-21AE8FA90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590A0-8FF8-48F0-B64D-1FC86C1DA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4F2AE-7B24-45D0-A244-2DA92B0C2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9DAEF-CEC3-4B31-B024-123A152E6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1BB80-2268-4CC1-882E-94B466718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71526-27E4-4735-876B-57DE460F6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AFC61-084F-42EA-9E8D-22E9F827F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B5AE4-D066-4322-8C72-398364BF2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A26BC-DA23-4388-9BE2-666063F55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040A41-BD1E-4A2A-8B01-8286A80BC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64B0-4D69-40FD-A43E-8820FA7FA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87A4E3-6457-4713-92E0-94C830DC3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91A823-4A05-46B1-9086-39A0CC25A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4DD37E-CFD5-412B-89B5-3B7F27DD3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0BF20E-D470-444B-9CC5-6011C49EF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8120C5-99D6-4519-BBD4-25564CDF0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8F8343-9F53-48CF-8DA1-7A6F8476F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A43F6-F07E-413A-971E-4C671E6F5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5EB192-AA1D-4773-9507-98C6CAC91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4EC88-50C5-4523-9DDA-7D33ED168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D3A63F-420E-47F7-8610-1B0CDBA90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A75E-CD10-42D4-9B16-4070F9C72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41564-FFD2-4687-9D06-BD12B5F31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7F668-B2E5-4AEE-B2B7-009EF2B49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920446-BAC7-4308-A7B9-16C7A8B69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97D7C2-5F9F-487C-9D2D-4CEBA483D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C0CE32-9D64-4C4D-B1BB-BA2CC1726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D844FE-0B9E-4D19-9415-DCFCDDBB5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E8C330-7291-4E9F-9FED-67BA26E47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720C9B-B014-4AFC-8A61-6A6AE5E50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137BA8-A9EB-4987-AFA7-FA8AC78A2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25F0BC-26B4-4128-8706-A6F67565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7B7B-A88A-417F-86C0-C06108423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4A3AFB-359D-45F4-A8D0-987E30465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98AC49-44E1-4364-8E75-007B94474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D8E8CA-DD9F-4A36-9653-4556EECF4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777056-6E1C-4E62-8C57-07D5893EB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027A31-CB32-4F80-90AB-86FDB5CF2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328FD9-B0D8-4999-9892-1F8EC125B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F09A86-10F2-49C2-81BF-A11F4E82C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2BC6C4-8224-4EA2-B306-250F0B520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8CCF2C-3BB7-4099-A5AD-4CC1308E9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0DC038-0B79-40A3-BABB-B0FE4A4F1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3D91-B881-483E-A115-F0867D67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5755A0-46E3-4362-AF07-EF0813A5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894C52-DBDA-42D2-843C-5729DC75A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9ED26B-7D64-492A-9E16-9833F4EB7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38BF1B-959A-4162-A039-3E3EF8D76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171EF4-93DB-43DE-B45D-A0F845D14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49B8-6B89-4DDD-BFAE-08D750606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85056-429B-4477-9C94-A4AF342D9F0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D9595-CA0F-4880-9465-AE3D9C6B2C7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33410-5920-4968-BEB9-1DB4A651015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3D22C-F40D-439D-ADAA-D2FA0B33342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DD635-422E-48EB-9DB0-0402C17CA6C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5549C-9E6C-4D29-B870-C2A67924ED5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C9A6E-8493-4703-9E10-2CD54E2514C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03280" y="549360"/>
            <a:ext cx="740736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Опасный мусор</a:t>
            </a:r>
            <a:endParaRPr b="0" lang="en-US" sz="7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19" name="Рисунок 3" descr="чел.png"/>
          <p:cNvPicPr/>
          <p:nvPr/>
        </p:nvPicPr>
        <p:blipFill>
          <a:blip r:embed="rId1"/>
          <a:stretch/>
        </p:blipFill>
        <p:spPr>
          <a:xfrm>
            <a:off x="1042920" y="1700280"/>
            <a:ext cx="78818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Рисунок 5" descr="планета.jpg"/>
          <p:cNvPicPr/>
          <p:nvPr/>
        </p:nvPicPr>
        <p:blipFill>
          <a:blip r:embed="rId1"/>
          <a:stretch/>
        </p:blipFill>
        <p:spPr>
          <a:xfrm>
            <a:off x="0" y="0"/>
            <a:ext cx="3643200" cy="32148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000080" y="3252960"/>
            <a:ext cx="8143920" cy="36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-6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Например с </a:t>
            </a:r>
            <a:r>
              <a:rPr b="1" i="1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2010 г.</a:t>
            </a: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в Санкт-Петербурге действует система регулярного сбора опасных отходов, образующихся в быту, с помощью мобильных пунктов приема – «Экомобилей». Мобильный пункт приема представляет собой автомобиль, оснащенный специальными контейнерами для сбора и транспортировки опасных отходов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8920" indent="-6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Заголовок 1"/>
          <p:cNvSpPr/>
          <p:nvPr/>
        </p:nvSpPr>
        <p:spPr>
          <a:xfrm>
            <a:off x="2286000" y="0"/>
            <a:ext cx="7497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Хорошая новость!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рямоугольник 5"/>
          <p:cNvSpPr/>
          <p:nvPr/>
        </p:nvSpPr>
        <p:spPr>
          <a:xfrm>
            <a:off x="3357720" y="1143000"/>
            <a:ext cx="5786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оявилась возможность утилизации отработанных батареек и аккумулятор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1434600" y="1447560"/>
            <a:ext cx="749484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«Экобокс»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«Экомобиль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0" name="Рисунок 3" descr="экомобиль.jpg"/>
          <p:cNvPicPr/>
          <p:nvPr/>
        </p:nvPicPr>
        <p:blipFill>
          <a:blip r:embed="rId1"/>
          <a:stretch/>
        </p:blipFill>
        <p:spPr>
          <a:xfrm>
            <a:off x="4067280" y="2133720"/>
            <a:ext cx="4902120" cy="4319640"/>
          </a:xfrm>
          <a:prstGeom prst="rect">
            <a:avLst/>
          </a:prstGeom>
          <a:ln w="0">
            <a:noFill/>
          </a:ln>
        </p:spPr>
      </p:pic>
      <p:pic>
        <p:nvPicPr>
          <p:cNvPr id="351" name="Рисунок 4" descr="экомобокс.jpg"/>
          <p:cNvPicPr/>
          <p:nvPr/>
        </p:nvPicPr>
        <p:blipFill>
          <a:blip r:embed="rId2"/>
          <a:srcRect l="8176" t="3566" r="6124" b="6122"/>
          <a:stretch/>
        </p:blipFill>
        <p:spPr>
          <a:xfrm>
            <a:off x="539640" y="2060640"/>
            <a:ext cx="3311640" cy="465300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ы можете сдать отработанные батарейки и аккумуляторы в: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714240" y="214200"/>
            <a:ext cx="8429760" cy="53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99160" indent="-231480">
              <a:lnSpc>
                <a:spcPct val="2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Благодаря работе «Экомобилей» было собрано и утилизировано </a:t>
            </a:r>
            <a:r>
              <a:rPr b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21 348 шт. </a:t>
            </a: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ртутьсодержащих ламп и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99160" indent="-231480">
              <a:lnSpc>
                <a:spcPct val="2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2 745 шт.</a:t>
            </a: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медицинских термометров и прочих ртутных приборов. Собрано и селективно переработано около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99160" indent="-231480">
              <a:lnSpc>
                <a:spcPct val="2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9-ти тонн </a:t>
            </a: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оргтехники и бытовых приборов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99160" indent="-231480" algn="ctr">
              <a:lnSpc>
                <a:spcPct val="2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На полигоны твердых бытовых отходов НЕ попало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99160" indent="-231480" algn="ctr">
              <a:lnSpc>
                <a:spcPct val="2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2,5 тонны лекарственных препаратов и химических отходов и 79 048 шт. батареек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3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Дорогие ребята! </a:t>
            </a:r>
            <a:br>
              <a:rPr sz="3900"/>
            </a:br>
            <a:r>
              <a:rPr b="0" lang="ru-RU" sz="39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Давайте вместе сделаем наш город чище!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115640" y="1773000"/>
            <a:ext cx="777708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5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давайте использованные батарейки и аккумулятор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асскажите своим друзьям, соседям и родителям о вреде этого опасного мусор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71280" y="333000"/>
            <a:ext cx="817236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Батарейка – это источник энергии для автономного питания разнообразных устройств.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1" name="Рисунок 3" descr="вертолет.jpg"/>
          <p:cNvPicPr/>
          <p:nvPr/>
        </p:nvPicPr>
        <p:blipFill>
          <a:blip r:embed="rId1"/>
          <a:stretch/>
        </p:blipFill>
        <p:spPr>
          <a:xfrm rot="1024200">
            <a:off x="5602320" y="3315960"/>
            <a:ext cx="3147840" cy="3147840"/>
          </a:xfrm>
          <a:prstGeom prst="rect">
            <a:avLst/>
          </a:prstGeom>
          <a:ln w="0">
            <a:noFill/>
          </a:ln>
        </p:spPr>
      </p:pic>
      <p:pic>
        <p:nvPicPr>
          <p:cNvPr id="322" name="Рисунок 4" descr="тел.jpg"/>
          <p:cNvPicPr/>
          <p:nvPr/>
        </p:nvPicPr>
        <p:blipFill>
          <a:blip r:embed="rId2"/>
          <a:stretch/>
        </p:blipFill>
        <p:spPr>
          <a:xfrm>
            <a:off x="755640" y="4581360"/>
            <a:ext cx="2941560" cy="2122560"/>
          </a:xfrm>
          <a:prstGeom prst="rect">
            <a:avLst/>
          </a:prstGeom>
          <a:ln w="0">
            <a:noFill/>
          </a:ln>
        </p:spPr>
      </p:pic>
      <p:pic>
        <p:nvPicPr>
          <p:cNvPr id="323" name="Рисунок 5" descr="фотик.jpg"/>
          <p:cNvPicPr/>
          <p:nvPr/>
        </p:nvPicPr>
        <p:blipFill>
          <a:blip r:embed="rId3"/>
          <a:stretch/>
        </p:blipFill>
        <p:spPr>
          <a:xfrm rot="21048000">
            <a:off x="3002040" y="2252160"/>
            <a:ext cx="2571840" cy="2181240"/>
          </a:xfrm>
          <a:prstGeom prst="rect">
            <a:avLst/>
          </a:prstGeom>
          <a:ln w="0">
            <a:noFill/>
          </a:ln>
        </p:spPr>
      </p:pic>
      <p:pic>
        <p:nvPicPr>
          <p:cNvPr id="324" name="Рисунок 6" descr="часы.jpg"/>
          <p:cNvPicPr/>
          <p:nvPr/>
        </p:nvPicPr>
        <p:blipFill>
          <a:blip r:embed="rId4"/>
          <a:stretch/>
        </p:blipFill>
        <p:spPr>
          <a:xfrm>
            <a:off x="324000" y="765000"/>
            <a:ext cx="1795320" cy="26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810108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Как же устроена батарейка?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6" name="Содержимое 3" descr="батарейка.jpg"/>
          <p:cNvPicPr/>
          <p:nvPr/>
        </p:nvPicPr>
        <p:blipFill>
          <a:blip r:embed="rId1"/>
          <a:stretch/>
        </p:blipFill>
        <p:spPr>
          <a:xfrm>
            <a:off x="1116000" y="907920"/>
            <a:ext cx="8028000" cy="59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Рисунок 4" descr="пал.jpg"/>
          <p:cNvPicPr/>
          <p:nvPr/>
        </p:nvPicPr>
        <p:blipFill>
          <a:blip r:embed="rId1"/>
          <a:stretch/>
        </p:blipFill>
        <p:spPr>
          <a:xfrm>
            <a:off x="3419640" y="4437000"/>
            <a:ext cx="4297320" cy="242100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810108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Какие бывают батарейки?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042560" y="980640"/>
            <a:ext cx="810108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5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1. Самые маленькие «таблетки»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2. «Пальчики», на них написано «АА» или «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size</a:t>
            </a: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АА» – это официальное их название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0" name="Рисунок 3" descr="таблетки.jpg"/>
          <p:cNvPicPr/>
          <p:nvPr/>
        </p:nvPicPr>
        <p:blipFill>
          <a:blip r:embed="rId2"/>
          <a:stretch/>
        </p:blipFill>
        <p:spPr>
          <a:xfrm>
            <a:off x="1692360" y="1557360"/>
            <a:ext cx="320832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Рисунок 4" descr="бочки.jpg"/>
          <p:cNvPicPr/>
          <p:nvPr/>
        </p:nvPicPr>
        <p:blipFill>
          <a:blip r:embed="rId1"/>
          <a:stretch/>
        </p:blipFill>
        <p:spPr>
          <a:xfrm>
            <a:off x="5940360" y="2852640"/>
            <a:ext cx="3476520" cy="347688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 txBox="1"/>
          <p:nvPr/>
        </p:nvSpPr>
        <p:spPr>
          <a:xfrm>
            <a:off x="971640" y="260280"/>
            <a:ext cx="691344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5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3. «Мизинчики» - официальное название «ААА» или «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size</a:t>
            </a: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ААА»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4. «Бочки» и «бочонки»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«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D</a:t>
            </a: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» – они побольше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или «С» – эти поменьше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3" name="Рисунок 3" descr="миз.jpg"/>
          <p:cNvPicPr/>
          <p:nvPr/>
        </p:nvPicPr>
        <p:blipFill>
          <a:blip r:embed="rId2"/>
          <a:stretch/>
        </p:blipFill>
        <p:spPr>
          <a:xfrm>
            <a:off x="1258920" y="1341360"/>
            <a:ext cx="350028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1000080" y="-360"/>
            <a:ext cx="77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91960" indent="-226080" algn="ctr"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се эти батарейки по типу использования бывают 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91960" indent="-226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Одноразовые</a:t>
            </a: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, которые нельзя перезаряжать на них написано «Алкалайновая батарейка» 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91960" indent="-226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ккумуляторные батарейки</a:t>
            </a: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, которые можно заряжать в специальном устройстве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91960" indent="-226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Другие батарейки </a:t>
            </a: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– специальные «свои» аккумуляторы в телефонах, видеокамерах, ноутбуках, некоторых фотоаппаратах – могут перезаряжаться в самом устройстве, когда оно подключается к электрической сети. Бывают батарейки типа «Крона» имеющие два круглых контакта и напряжение в 9 вольт  и другие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838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Чем опасна батарейка?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6" name="Содержимое 3" descr="внимание.jpg"/>
          <p:cNvPicPr/>
          <p:nvPr/>
        </p:nvPicPr>
        <p:blipFill>
          <a:blip r:embed="rId1"/>
          <a:stretch/>
        </p:blipFill>
        <p:spPr>
          <a:xfrm>
            <a:off x="324000" y="3068640"/>
            <a:ext cx="5864040" cy="3456000"/>
          </a:xfrm>
          <a:prstGeom prst="rect">
            <a:avLst/>
          </a:prstGeom>
          <a:ln w="0">
            <a:noFill/>
          </a:ln>
        </p:spPr>
      </p:pic>
      <p:sp>
        <p:nvSpPr>
          <p:cNvPr id="337" name="Прямоугольник 4"/>
          <p:cNvSpPr/>
          <p:nvPr/>
        </p:nvSpPr>
        <p:spPr>
          <a:xfrm>
            <a:off x="1071720" y="1071720"/>
            <a:ext cx="7715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 батарейках содержится множество различных металлов — ртуть, никель, кадмий, свинец, литий, марганец и цинк, которые имеют свойство накапливаться в живых организмах, в том числе и в организме человека, и наносить существенный вред здоровью.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Прямоугольник 5"/>
          <p:cNvSpPr/>
          <p:nvPr/>
        </p:nvSpPr>
        <p:spPr>
          <a:xfrm>
            <a:off x="6286680" y="3068640"/>
            <a:ext cx="26780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Знак изображенный на батарейке означает: </a:t>
            </a: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«Не выбрасывать, необходимо сдать в специальный пункт утилизаци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Чем опасны тяжелые металлы, находящиеся в батарейках?</a:t>
            </a:r>
            <a:r>
              <a:rPr b="0" lang="ru-RU" sz="39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 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214280" y="1714320"/>
            <a:ext cx="771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винец.</a:t>
            </a:r>
            <a:r>
              <a:rPr b="0" lang="ru-RU" sz="23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 Накапливается в основном в почках. Вызывает также заболевания мозга, нервные расстройства. </a:t>
            </a: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Кадмий.</a:t>
            </a:r>
            <a:r>
              <a:rPr b="0" lang="ru-RU" sz="23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 Накапливается в печени, почках, костях и щитовидной железе. Является канцерогеном, то есть провоцирует рак. </a:t>
            </a: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Ртуть.</a:t>
            </a:r>
            <a:r>
              <a:rPr b="0" lang="ru-RU" sz="23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 Влияет на мозг, нервную систему, почки и печень. Вызывает нервные расстройства, ухудшение зрения, слуха, нарушения двигательного аппарата, заболевания дыхательной системы. Наиболее уязвимы дети. Независимо от путей поступления в организм ртуть накапливается в почках.</a:t>
            </a: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Рисунок 3" descr="3.bmp"/>
          <p:cNvPicPr/>
          <p:nvPr/>
        </p:nvPicPr>
        <p:blipFill>
          <a:blip r:embed="rId1"/>
          <a:stretch/>
        </p:blipFill>
        <p:spPr>
          <a:xfrm>
            <a:off x="5003640" y="836640"/>
            <a:ext cx="3857760" cy="5857920"/>
          </a:xfrm>
          <a:prstGeom prst="rect">
            <a:avLst/>
          </a:prstGeom>
          <a:ln w="0">
            <a:noFill/>
          </a:ln>
        </p:spPr>
      </p:pic>
      <p:pic>
        <p:nvPicPr>
          <p:cNvPr id="342" name="Содержимое 5" descr="Ежики.jpg"/>
          <p:cNvPicPr/>
          <p:nvPr/>
        </p:nvPicPr>
        <p:blipFill>
          <a:blip r:embed="rId2"/>
          <a:stretch/>
        </p:blipFill>
        <p:spPr>
          <a:xfrm>
            <a:off x="0" y="-227160"/>
            <a:ext cx="4714920" cy="708516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14240" y="-171720"/>
            <a:ext cx="842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ред батареек для окружающей среды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79995</dc:creator>
  <dc:description/>
  <dc:language>en-US</dc:language>
  <cp:lastModifiedBy>79995678691</cp:lastModifiedBy>
  <dcterms:modified xsi:type="dcterms:W3CDTF">2020-12-27T08:43:37Z</dcterms:modified>
  <cp:revision>14</cp:revision>
  <dc:subject/>
  <dc:title>Слайд 1</dc:title>
</cp:coreProperties>
</file>