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2F51-1AB5-4FD4-867B-C34E2558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5DE-D658-4D32-81B8-CB1B3B8C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94D6-FFFF-4245-9064-10FBBE66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3DD7-DE9A-479A-AC01-AEFA67F3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E2DD-2773-4ECB-99E9-8776F4AF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F77A-AF0D-4224-AE26-AABCFCF8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5E4F-FC25-407F-B20C-7BA5AD5B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FA28-E79C-45D9-B035-7F6D15A6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8D56-A8C8-434E-853E-7F3BBFDB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304E-B7AA-45EF-976C-BCDB650D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CCF0-2304-4586-8375-73635F1B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FD7D-D6CD-46BD-BFBD-99866A01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E331-6BC2-46F7-9AB6-E4EBAC92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874F-5E3D-4412-A439-574F4D48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83C4-589E-4D14-BAB8-18E71ACC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86FF-7B9B-476E-982C-EBE93F0C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B163-4E43-4065-86F5-0374B93B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307A5-BA89-4176-ABE8-B76FEF7F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33C56-CAA9-47A0-B89E-7660EB0F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E26C5-6D60-4AFD-9ACD-57845BD4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58804-2E04-41F3-BC81-7F8CA3F2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9AE3A-D70A-476F-AB81-64CC5C25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83A3-3DDB-4925-BDAC-B9D772A6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210C7-EF35-4376-ABFD-11E50F39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074BD-0321-4303-B2EE-DB610A28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1D4AF-70E7-4156-AC9F-ABEBBCC4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6550B-0470-4AA8-984F-C3C0E26D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B8888-6CF6-446E-99C3-C53F023A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4A609-7638-43E8-B38B-F39209FD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CDF48-059B-40E0-99DD-4693F895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60FDC-E373-4B15-A60E-82B56EC4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24555-1920-47A7-923F-B34A9281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C024B-F5F6-465E-90F8-DE0F5716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0483-09F0-49B6-A490-AD10D745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A8A6B-9E93-4B9B-B072-AF298397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A504A-F3AF-4FD6-AD2E-72001C4A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98F25-1BE3-4C43-ABC4-E58D5F7C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1060B-B783-4E0C-A2D3-2F865F85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3C9CE-67D3-4DB0-AB63-9DF8201C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CAA0A-CB55-4745-A6D9-63FA19CC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F471B-B2DF-41F6-AAA0-545E4B38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2C35D-3CF3-4C54-B868-CB0861C9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E37B2-FF1E-408E-84DA-982A9D80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9A854-3165-4F70-8C0F-281ED3E6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F6E1-78DE-4276-9C41-7BD8B8E3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BCD5D-4889-4849-BF6C-B1264021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EE15F-F48E-4693-A07F-1D6E617E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5B680-1C4D-4C7D-863C-73E96E90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05910-8A08-4692-9F0A-3D238984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3421D-FA3C-413C-B031-B39E18D8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2597B-BFEC-4664-BC4C-17FE509A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CAF6F-9D27-4057-B4DC-7155C00E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CB304-E516-47B7-8FDD-388C11FF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A5DE7-9EF9-480C-AF4C-528831D1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99F6B-1567-40BF-A64B-53F56C78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E6E9-6929-4BC7-804D-72FFEE38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45477-1DA2-488C-B782-F1B6E245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A26D7-BBD8-4019-98F6-9474EE06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EFD1B-2619-4E1F-A83F-E4619FEC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41B82-0864-4DB5-8029-A2BEBEC2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C5049-B26F-4294-8F91-327DCADB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4B548-CD61-461A-A18C-333F3A13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574AA-0128-42FB-99B7-AE3ED642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7A535-FE60-4248-9B45-12E1DCBD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85E7C-D767-4D89-9CE8-340474FD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8BA3E-BA30-4AB0-8B83-FF420C38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EF25-DD24-4105-873E-CFB576FD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9AD2A-D489-4DB3-BB94-E2C8B11C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894BF-8264-4FA0-A012-4E8A9640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E8C97-12D8-480F-B26B-126686FC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B7867-2B66-4D57-B2B2-22BED937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B8158-D238-4032-9666-AD27268E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DD286-6B78-43BC-8BA3-12980A80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3925C-348F-49E0-BF06-3686AF90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D1D00-8602-4F3D-91BF-79AE8BF5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B8936-C6E4-43F3-9A3A-B1212A91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24F97-820F-49EC-8DD7-F514F26C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0411-09A5-41D8-ADB4-C37A9EAC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E69DA-97A6-4015-ACEC-F8F811C8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2A2BF-16F8-4AD3-8299-932B91EF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1933C-0C10-4D89-9234-60A2041C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7AAA2-E78C-42F4-901C-C2D0515C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87EB1-7A18-4F9B-8AED-99961A55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00B3-9781-4CCE-BFA8-5F9442A4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BB57-107D-4198-9ADE-C9AD5939052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034D-240B-4835-B150-2819617BC13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01E1-E461-41B4-999E-C6EE9420BBE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BFC2-EC93-4E9D-8D5A-256A46B038C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3989-EDA5-4EEC-AB84-F3BD995369F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08CE-470F-4621-AA44-90644224849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10BA-5B66-4065-ABF4-BB2DB97C654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549360"/>
            <a:ext cx="740736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пасный мусор</a:t>
            </a: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Рисунок 3" descr="чел.png"/>
          <p:cNvPicPr/>
          <p:nvPr/>
        </p:nvPicPr>
        <p:blipFill>
          <a:blip r:embed="rId1"/>
          <a:stretch/>
        </p:blipFill>
        <p:spPr>
          <a:xfrm>
            <a:off x="1042920" y="1700280"/>
            <a:ext cx="78818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Рисунок 5" descr="планета.jpg"/>
          <p:cNvPicPr/>
          <p:nvPr/>
        </p:nvPicPr>
        <p:blipFill>
          <a:blip r:embed="rId1"/>
          <a:stretch/>
        </p:blipFill>
        <p:spPr>
          <a:xfrm>
            <a:off x="0" y="0"/>
            <a:ext cx="3643200" cy="32148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00080" y="3252960"/>
            <a:ext cx="8143920" cy="36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-6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пример с </a:t>
            </a:r>
            <a:r>
              <a:rPr b="1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010 г.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в Санкт-Петербурге действует система регулярного сбора опасных отходов, образующихся в быту, с помощью мобильных пунктов приема – «Экомобилей». Мобильный пункт приема представляет собой автомобиль, оснащенный специальными контейнерами для сбора и транспортировки опасных отходов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8920" indent="-6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Заголовок 1"/>
          <p:cNvSpPr/>
          <p:nvPr/>
        </p:nvSpPr>
        <p:spPr>
          <a:xfrm>
            <a:off x="2286000" y="0"/>
            <a:ext cx="749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Хорошая новость!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5"/>
          <p:cNvSpPr/>
          <p:nvPr/>
        </p:nvSpPr>
        <p:spPr>
          <a:xfrm>
            <a:off x="3357720" y="1143000"/>
            <a:ext cx="5786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явилась возможность утилизации отработанных батареек и аккумулятор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434600" y="1447560"/>
            <a:ext cx="749484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Экобокс»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Экомобиль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Рисунок 3" descr="экомобиль.jpg"/>
          <p:cNvPicPr/>
          <p:nvPr/>
        </p:nvPicPr>
        <p:blipFill>
          <a:blip r:embed="rId1"/>
          <a:stretch/>
        </p:blipFill>
        <p:spPr>
          <a:xfrm>
            <a:off x="4067280" y="2133720"/>
            <a:ext cx="4902120" cy="431964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4" descr="экомобокс.jpg"/>
          <p:cNvPicPr/>
          <p:nvPr/>
        </p:nvPicPr>
        <p:blipFill>
          <a:blip r:embed="rId2"/>
          <a:srcRect l="8176" t="3566" r="6124" b="6122"/>
          <a:stretch/>
        </p:blipFill>
        <p:spPr>
          <a:xfrm>
            <a:off x="539640" y="2060640"/>
            <a:ext cx="3311640" cy="4653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 можете сдать отработанные батарейки и аккумуляторы в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714240" y="214200"/>
            <a:ext cx="842976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31480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лагодаря работе «Экомобилей» было собрано и утилизировано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1 348 шт.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тутьсодержащих ламп и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 745 шт.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медицинских термометров и прочих ртутных приборов. Собрано и селективно переработано около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9-ти тонн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ргтехники и бытовых приборов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 algn="ctr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На полигоны твердых бытовых отходов НЕ попало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 algn="ctr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2,5 тонны лекарственных препаратов и химических отходов и 79 048 шт. батареек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орогие ребята! </a:t>
            </a:r>
            <a:br>
              <a:rPr sz="3900"/>
            </a:br>
            <a:r>
              <a:rPr b="0" lang="ru-RU" sz="3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авайте вместе сделаем наш город чище!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115640" y="1773000"/>
            <a:ext cx="7777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давайте использованные батарейки и аккумулятор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скажите своим друзьям, соседям и родителям о вреде этого опасного мусор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817236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атарейка – это источник энергии для автономного питания разнообразных устройств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1" name="Рисунок 3" descr="вертолет.jpg"/>
          <p:cNvPicPr/>
          <p:nvPr/>
        </p:nvPicPr>
        <p:blipFill>
          <a:blip r:embed="rId1"/>
          <a:stretch/>
        </p:blipFill>
        <p:spPr>
          <a:xfrm rot="1024200">
            <a:off x="5602320" y="3315960"/>
            <a:ext cx="3147840" cy="314784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4" descr="тел.jpg"/>
          <p:cNvPicPr/>
          <p:nvPr/>
        </p:nvPicPr>
        <p:blipFill>
          <a:blip r:embed="rId2"/>
          <a:stretch/>
        </p:blipFill>
        <p:spPr>
          <a:xfrm>
            <a:off x="755640" y="4581360"/>
            <a:ext cx="2941560" cy="212256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5" descr="фотик.jpg"/>
          <p:cNvPicPr/>
          <p:nvPr/>
        </p:nvPicPr>
        <p:blipFill>
          <a:blip r:embed="rId3"/>
          <a:stretch/>
        </p:blipFill>
        <p:spPr>
          <a:xfrm rot="21048000">
            <a:off x="3002040" y="2252160"/>
            <a:ext cx="2571840" cy="218124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6" descr="часы.jpg"/>
          <p:cNvPicPr/>
          <p:nvPr/>
        </p:nvPicPr>
        <p:blipFill>
          <a:blip r:embed="rId4"/>
          <a:stretch/>
        </p:blipFill>
        <p:spPr>
          <a:xfrm>
            <a:off x="324000" y="765000"/>
            <a:ext cx="179532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ак же устроена батарейка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Содержимое 3" descr="батарейка.jpg"/>
          <p:cNvPicPr/>
          <p:nvPr/>
        </p:nvPicPr>
        <p:blipFill>
          <a:blip r:embed="rId1"/>
          <a:stretch/>
        </p:blipFill>
        <p:spPr>
          <a:xfrm>
            <a:off x="1116000" y="907920"/>
            <a:ext cx="80280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4" descr="пал.jpg"/>
          <p:cNvPicPr/>
          <p:nvPr/>
        </p:nvPicPr>
        <p:blipFill>
          <a:blip r:embed="rId1"/>
          <a:stretch/>
        </p:blipFill>
        <p:spPr>
          <a:xfrm>
            <a:off x="3419640" y="4437000"/>
            <a:ext cx="4297320" cy="2421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акие бывают батарейки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042560" y="980640"/>
            <a:ext cx="8101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 Самые маленькие «таблетки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 «Пальчики», на них написано «АА» или «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size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АА» – это официальное их названи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Рисунок 3" descr="таблетки.jpg"/>
          <p:cNvPicPr/>
          <p:nvPr/>
        </p:nvPicPr>
        <p:blipFill>
          <a:blip r:embed="rId2"/>
          <a:stretch/>
        </p:blipFill>
        <p:spPr>
          <a:xfrm>
            <a:off x="1692360" y="1557360"/>
            <a:ext cx="32083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Рисунок 4" descr="бочки.jpg"/>
          <p:cNvPicPr/>
          <p:nvPr/>
        </p:nvPicPr>
        <p:blipFill>
          <a:blip r:embed="rId1"/>
          <a:stretch/>
        </p:blipFill>
        <p:spPr>
          <a:xfrm>
            <a:off x="5940360" y="2852640"/>
            <a:ext cx="3476520" cy="34768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971640" y="260280"/>
            <a:ext cx="6913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 «Мизинчики» - официальное название «ААА» или «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size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ААА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. «Бочки» и «бочонки»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D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» – они побольш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ли «С» – эти поменьш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Рисунок 3" descr="миз.jpg"/>
          <p:cNvPicPr/>
          <p:nvPr/>
        </p:nvPicPr>
        <p:blipFill>
          <a:blip r:embed="rId2"/>
          <a:stretch/>
        </p:blipFill>
        <p:spPr>
          <a:xfrm>
            <a:off x="1258920" y="1341360"/>
            <a:ext cx="35002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000080" y="-360"/>
            <a:ext cx="77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1960" indent="-226080" algn="ctr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се эти батарейки по типу использования бывают 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дноразовые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которые нельзя перезаряжать на них написано «Алкалайновая батарейка» 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ккумуляторные батарейки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которые можно заряжать в специальном устройств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91960" indent="-226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ругие батарейки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– специальные «свои» аккумуляторы в телефонах, видеокамерах, ноутбуках, некоторых фотоаппаратах – могут перезаряжаться в самом устройстве, когда оно подключается к электрической сети. Бывают батарейки типа «Крона» имеющие два круглых контакта и напряжение в 9 вольт  и друг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Чем опасна батарейка?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Содержимое 3" descr="внимание.jpg"/>
          <p:cNvPicPr/>
          <p:nvPr/>
        </p:nvPicPr>
        <p:blipFill>
          <a:blip r:embed="rId1"/>
          <a:stretch/>
        </p:blipFill>
        <p:spPr>
          <a:xfrm>
            <a:off x="324000" y="3068640"/>
            <a:ext cx="5864040" cy="345600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4"/>
          <p:cNvSpPr/>
          <p:nvPr/>
        </p:nvSpPr>
        <p:spPr>
          <a:xfrm>
            <a:off x="1071720" y="1071720"/>
            <a:ext cx="771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батарейках содержится множество различных металлов — ртуть, никель, кадмий, свинец, литий, марганец и цинк, которые имеют свойство накапливаться в живых организмах, в том числе и в организме человека, и наносить существенный вред здоровью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5"/>
          <p:cNvSpPr/>
          <p:nvPr/>
        </p:nvSpPr>
        <p:spPr>
          <a:xfrm>
            <a:off x="6286680" y="3068640"/>
            <a:ext cx="2678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нак изображенный на батарейке означает: 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Не выбрасывать, необходимо сдать в специальный пункт утилиза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Чем опасны тяжелые металлы, находящиеся в батарейках?</a:t>
            </a:r>
            <a:r>
              <a:rPr b="0" lang="ru-RU" sz="39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214280" y="1714320"/>
            <a:ext cx="771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винец.</a:t>
            </a:r>
            <a:r>
              <a:rPr b="0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Накапливается в основном в почках. Вызывает также заболевания мозга, нервные расстройства. 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адмий.</a:t>
            </a:r>
            <a:r>
              <a:rPr b="0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Накапливается в печени, почках, костях и щитовидной железе. Является канцерогеном, то есть провоцирует рак. 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туть.</a:t>
            </a:r>
            <a:r>
              <a:rPr b="0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 Влияет на мозг, нервную систему, почки и печень. Вызывает нервные расстройства, ухудшение зрения, слуха, нарушения двигательного аппарата, заболевания дыхательной системы. Наиболее уязвимы дети. Независимо от путей поступления в организм ртуть накапливается в почках.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Рисунок 3" descr="3.bmp"/>
          <p:cNvPicPr/>
          <p:nvPr/>
        </p:nvPicPr>
        <p:blipFill>
          <a:blip r:embed="rId1"/>
          <a:stretch/>
        </p:blipFill>
        <p:spPr>
          <a:xfrm>
            <a:off x="5003640" y="836640"/>
            <a:ext cx="3857760" cy="5857920"/>
          </a:xfrm>
          <a:prstGeom prst="rect">
            <a:avLst/>
          </a:prstGeom>
          <a:ln w="0">
            <a:noFill/>
          </a:ln>
        </p:spPr>
      </p:pic>
      <p:pic>
        <p:nvPicPr>
          <p:cNvPr id="342" name="Содержимое 5" descr="Ежики.jpg"/>
          <p:cNvPicPr/>
          <p:nvPr/>
        </p:nvPicPr>
        <p:blipFill>
          <a:blip r:embed="rId2"/>
          <a:stretch/>
        </p:blipFill>
        <p:spPr>
          <a:xfrm>
            <a:off x="0" y="-227160"/>
            <a:ext cx="4714920" cy="70851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14240" y="-1717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ред батареек для окружающей среды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79995</dc:creator>
  <dc:description/>
  <dc:language>en-US</dc:language>
  <cp:lastModifiedBy>79995678691</cp:lastModifiedBy>
  <dcterms:modified xsi:type="dcterms:W3CDTF">2020-12-27T08:43:37Z</dcterms:modified>
  <cp:revision>14</cp:revision>
  <dc:subject/>
  <dc:title>Слайд 1</dc:title>
</cp:coreProperties>
</file>