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00C1-0E19-4CA5-833B-0B8873AFCF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6F37-7A65-4061-B138-D342C92BE5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3E1D-DD75-4F3E-82EC-5BFF7760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2B4F-1B01-497F-9C88-A0B37DAC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5AB2-5EC9-4239-853D-DC484A8E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DD51-1E95-48A1-B1C1-854DFF93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FCC5-FF3C-40BB-B57C-82AB2263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A2BC-C881-400B-92B4-76E5EF3C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6421-DDA6-4D92-9A3E-F021E2D5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7A5B-D116-412E-8CED-47B871CC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86D5-60EE-4D90-AF7C-F712BEA0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4851-77DD-47CC-9681-A8863AAA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7E29-1DAA-445B-92A3-830E38BB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6DAD-0511-4C43-9F6E-6119C2E7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B916-7634-4EF2-B5DC-5989DCC3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9DDB-2F34-4242-BBDF-BC50C164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55FA-9CF4-4A67-BEBB-7F455DB9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BA77-3485-4A5E-B1C8-8AB04755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EBF2-0AE5-4958-910A-FBD610DC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E0AEC-B208-4887-B97B-6F23DF2E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A3E33-3F3C-4393-90A8-EAC915C4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971F1-7DD2-4CD5-8D86-5500F459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0681B-A0E7-4716-BFF6-40CB78EE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B9F59-4F0A-47E9-B516-4CCB141F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AF8A-46ED-484C-8864-E30F761A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851BD-8F0B-4E90-9B36-89B334C6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04AF8-A6E4-4178-99A9-6D91955F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C8B16-E15B-4736-A3AB-90F34F1B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C6960-35A9-40FB-8E4A-BDAD8951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9A5B5-ACB6-4308-8841-639E52E2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93F02-4DBD-4D2B-A454-1D6C62EB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79D31-E45E-4909-971B-7094CA06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FD475-10C5-40D7-A87D-72089516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0BC55-3D3F-4457-ADDE-52F2F088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300A6-985A-442B-A84E-C343A082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CE87-3927-44E1-8BD7-1D3FC9F0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0C09C-E0DE-48E0-B552-0B4A8A68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2D6A9-D02B-48CC-8C89-0BCBF819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82979-7E57-4F2E-B29D-9740ACE5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ED170-02F0-488E-8552-4559DCD6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526C5-12F7-483D-A49F-BAD27CAE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396A0-1BE8-46EE-93E1-00F554BB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E9690-E944-45F2-A310-3398B8DE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20E0F-C21F-4186-BAF9-A2E7C440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1668D-FAB4-424C-83A2-BE11F826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352EF-86AD-45FD-8909-70BF9F7A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519F-54A6-40D0-8D69-52282A79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21EF0-C460-4A69-A250-6772B07E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6A810-2882-464F-8092-59A28EC9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37DC1-511C-4BF2-B220-24327FB2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3ED47-287F-4DE7-B4D0-E1978DEC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153C7-FD50-499B-916A-8CD81B02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2CCFF-08D0-4769-BBD8-1628F597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54D4E-CBA4-44D8-8A96-BCA77E66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9125E-D436-4314-A5B5-DD5DAD2F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3F4F9-185C-44BF-BFA1-09CF6F5B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D1ACF-933F-491A-A50F-ED22AE62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06AA-FAF1-49B3-BD22-1822ABDB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64D7B-6980-47AC-9D5E-7A0D233E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D79A-A24B-4BD1-99B9-86DB6631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559E-CECF-4AFA-AAF5-FF67AD76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DC1C-15FE-41D8-8079-92070C56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9008-E928-4316-B53D-F4F3260CBCB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DE4F-3314-4BCA-AC4E-580F9758F4C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BB55-8488-474D-BE44-7012E86D73D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8C89-984B-4B35-BDD8-94737F38F05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CE80-4FAA-4CA4-875A-97D1D8CA72F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500040" y="-396720"/>
            <a:ext cx="9094680" cy="1414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79995\Desktop\изонить\30 декабря -1 января «Звезда»\0871c417189d455c4f263f56f582de2f--string-pictures-stringart.jpg"/>
          <p:cNvPicPr/>
          <p:nvPr/>
        </p:nvPicPr>
        <p:blipFill>
          <a:blip r:embed="rId2"/>
          <a:stretch/>
        </p:blipFill>
        <p:spPr>
          <a:xfrm>
            <a:off x="1692360" y="1052640"/>
            <a:ext cx="528948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0297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4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«Звезда»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C:\Users\79995\Desktop\изонить\30 декабря -1 января «Звезда»\0871c417189d455c4f263f56f582de2f--string-pictures-stringart.jpg"/>
          <p:cNvPicPr/>
          <p:nvPr/>
        </p:nvPicPr>
        <p:blipFill>
          <a:blip r:embed="rId1"/>
          <a:stretch/>
        </p:blipFill>
        <p:spPr>
          <a:xfrm>
            <a:off x="0" y="1125360"/>
            <a:ext cx="4782960" cy="5023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C:\Users\79995\Desktop\изонить\30 декабря -1 января «Звезда»\String-art-star-design.jpg"/>
          <p:cNvPicPr/>
          <p:nvPr/>
        </p:nvPicPr>
        <p:blipFill>
          <a:blip r:embed="rId2"/>
          <a:stretch/>
        </p:blipFill>
        <p:spPr>
          <a:xfrm>
            <a:off x="4640400" y="2565360"/>
            <a:ext cx="45036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Arial"/>
              </a:rPr>
              <a:t>Пример работы ««Звезда»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C:\Users\79995\Desktop\изонить\30 декабря -1 января «Звезда»\izonit_zvezda_shema_5.jpg"/>
          <p:cNvPicPr/>
          <p:nvPr/>
        </p:nvPicPr>
        <p:blipFill>
          <a:blip r:embed="rId1"/>
          <a:stretch/>
        </p:blipFill>
        <p:spPr>
          <a:xfrm>
            <a:off x="0" y="1268280"/>
            <a:ext cx="9288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395280" y="26028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C:\Users\79995\Desktop\изонить\30 декабря -1 января «Звезда»\izonit_zvezda_shema_22.jp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27T08:50:35Z</dcterms:modified>
  <cp:revision>39</cp:revision>
  <dc:subject/>
  <dc:title>ТВОРЧЕСКАЯ ДЕЯТЕЛЬНОСТЬ: ЗНАКОМСТВО С ТЕХНИКОЙ ИЗОНИТЬ</dc:title>
</cp:coreProperties>
</file>