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EB98-067F-4695-B777-8EC716E6C1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2909-1DDE-40E2-8938-2A9729ADF5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BEF-864B-4CD2-A205-C02B52CB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B0C-9B48-4F73-AACB-69E7F249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882-A8B6-409C-B969-6E3149AD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3CC-E2A9-48D6-A663-E448BA3C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E4CB-D155-4ABC-BF2B-493B10D8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0F91-4E32-4AB1-A774-02CF9B06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0173-2A9F-4604-BAC2-A96A5D21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615F-62D1-4B40-BA6F-8C21EC88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7B3A-BD4C-4491-9A9E-3DD4F9BA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1D3C-B4F1-4156-8362-4A1E6C1D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EFB9-8F86-43DA-9484-6DDEE134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813-531D-41BC-AE4C-54B64736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4A44-F876-4DF8-9358-4A7BEFFA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C497-8893-4AB1-BD3F-A519D761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5941-BE21-4E39-A2BB-44EC1457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92A5-6013-44A6-AF52-F570BEB3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EC0F-5A4A-409E-AB05-189822DD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6657-CF73-4F4D-9A7B-F2A15617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8AA1-976A-4415-854B-09A43BC9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8349-897A-4E39-976D-3D1F2798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A725D-419F-4A37-BF69-8CA18DBF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06F3C-E03B-40AA-B743-50A98EB5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C41-CB58-4104-87CF-6FBD5D45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906C-4DA6-49CE-A567-F48AF5F7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D4F4-AA5C-458E-A08D-B2408760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CADB-F3DB-48A7-BE37-626998AD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34E3-62FB-4878-A05D-9FDC3A46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BAD7-5E9E-4C3C-A80F-22FE70E7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3F65-C4A1-45EB-869F-B4E90B34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63EE-0386-40C7-98AD-88247020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1E3B-25D8-4004-B230-C4388EA2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B6BB7-A581-4337-8568-1BB950CD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F032-A471-40C3-882C-21CDC718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204-0AC7-4D64-AA6E-FFE52BC9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A3B1-939B-41A2-9FC5-508250F5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C570-6798-4F39-A648-7727A797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0E8D9-A8E2-4349-AA53-40E015A9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4B2DF-3C48-412C-B93C-53113ABE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38765-DFBC-4055-A4DD-052BDBA1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59BB-A37B-4536-ACC7-4DD8BD1D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DFD52-9369-413F-A59F-08000596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ED43-9444-4A27-8CD0-86152ADE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E9F0B-A380-4537-B2DB-2CFDE293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1CD90-284C-4EF4-BC69-8EC68DF3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4A3-DC76-43F3-A460-FA63F661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340F-6A70-428A-81C8-6F8743B5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8CAB5-D394-4023-9AA3-7690CA34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5BD0B-2F09-48A6-BC7A-2D1A989D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52F1-0469-4322-8BD3-203EBA8E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5EB69-6460-4155-AE3E-D30E69AA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DF1C5-32D1-4E95-87F2-3625B443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1D19-B1F2-4245-8EA0-E7771050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1DBCF-C377-44FE-8A37-B022DE4D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7CA43-2CAB-448C-B55A-48DF5155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93F60-AE5C-4C28-8863-8F03EC87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B11-5F7B-4B2E-BB86-92B80FAA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EC036-1DCD-4CF2-BBEE-7EBA86C1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DFC-12F5-4B61-9A6E-F535D139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F86-5753-4DEC-BE22-15D2AB4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172-BA73-4B9A-95A4-FE8A468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636A-FA41-431D-B372-41B3B0F032D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1AD4-66B2-4BE2-8B81-EA6F31E5B12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F1BC-6E92-4EEC-B33A-BE38CE66213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2D5-F285-417A-8CA9-02412A6E7D7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C9B7-A7CB-4A82-B0CC-CB5528CBBE8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00040" y="-39672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изонить\30 декабря -1 января «Звезда»\0871c417189d455c4f263f56f582de2f--string-pictures-stringart.jpg"/>
          <p:cNvPicPr/>
          <p:nvPr/>
        </p:nvPicPr>
        <p:blipFill>
          <a:blip r:embed="rId2"/>
          <a:stretch/>
        </p:blipFill>
        <p:spPr>
          <a:xfrm>
            <a:off x="1692360" y="1052640"/>
            <a:ext cx="528948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«Звезд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C:\Users\79995\Desktop\изонить\30 декабря -1 января «Звезда»\0871c417189d455c4f263f56f582de2f--string-pictures-stringart.jpg"/>
          <p:cNvPicPr/>
          <p:nvPr/>
        </p:nvPicPr>
        <p:blipFill>
          <a:blip r:embed="rId1"/>
          <a:stretch/>
        </p:blipFill>
        <p:spPr>
          <a:xfrm>
            <a:off x="0" y="1125360"/>
            <a:ext cx="4782960" cy="5023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C:\Users\79995\Desktop\изонить\30 декабря -1 января «Звезда»\String-art-star-design.jpg"/>
          <p:cNvPicPr/>
          <p:nvPr/>
        </p:nvPicPr>
        <p:blipFill>
          <a:blip r:embed="rId2"/>
          <a:stretch/>
        </p:blipFill>
        <p:spPr>
          <a:xfrm>
            <a:off x="4640400" y="2565360"/>
            <a:ext cx="4503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«Звезд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C:\Users\79995\Desktop\изонить\30 декабря -1 января «Звезда»\izonit_zvezda_shema_5.jpg"/>
          <p:cNvPicPr/>
          <p:nvPr/>
        </p:nvPicPr>
        <p:blipFill>
          <a:blip r:embed="rId1"/>
          <a:stretch/>
        </p:blipFill>
        <p:spPr>
          <a:xfrm>
            <a:off x="0" y="1268280"/>
            <a:ext cx="9288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C:\Users\79995\Desktop\изонить\30 декабря -1 января «Звезда»\izonit_zvezda_shema_22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27T08:50:35Z</dcterms:modified>
  <cp:revision>39</cp:revision>
  <dc:subject/>
  <dc:title>ТВОРЧЕСКАЯ ДЕЯТЕЛЬНОСТЬ: ЗНАКОМСТВО С ТЕХНИКОЙ ИЗОНИТЬ</dc:title>
</cp:coreProperties>
</file>