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png" ContentType="image/png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86054-CE86-4C7C-B9CB-85501BE9709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CF489-5ADC-45FC-997C-29C32BFEF80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1A45-EFD9-4828-B2FC-0B4CB8B9D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A554-04E9-440D-A9E9-C0542A843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87EC-441F-48E7-9E0C-502AA8882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373B-773F-4E90-AC32-602E1F8BB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D25DF-B6B2-4D8C-B08A-7E9BB970A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5D59D-A79A-41B0-B1A9-9B51CDEBE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872B7-C508-4BD4-8405-92FDF2056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234AE-1A8E-4FE2-B9C1-A46C37A51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36DF3-91D0-4FAE-9E95-5E703190F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16FFD-D8AD-41EE-B9D6-A795F6043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B5A0C-98AE-4141-9D53-DB6253E2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ACD2-4FE3-442C-B13C-1ECAC53EB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4FA6B-1945-4CB2-A96C-B2EF3941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00029-7593-44CA-B6C4-CCAC71E1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32F42-9448-4FCF-BBD0-3E09745A1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0DC54-7FC7-46E8-B515-DFAF08213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43F8D-7AA4-4BA2-A623-92F72C274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799D0-E9BA-4283-8C11-7CE35E27F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38707-476B-4BA4-9A21-62C7C310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394DA-5CAA-4EE9-B98E-0FB91ED87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0CEB4-CDA2-40A5-97E4-D7088EED5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0DEC8-3906-4A3C-B615-0BD31514E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3F2F-FA6C-40BA-ABC6-650CD0751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45877-C949-4721-AD80-ECACE09A4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E155D-539B-4FC4-A8DF-1C35F865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5D074-42C7-4E32-87F1-C521AA71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D9C55-A2B9-42AE-B815-7F06C6E8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AD011-6EAA-4446-B44F-3954A93B2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9717F-B6E4-476A-9A03-1446D72C3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02195-89D5-44BF-8999-AF024993B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81A2C-14C2-47FF-9E1F-E018BC31F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AD65D-3117-4C20-8C5B-90FCEFA99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80423-F173-4FDD-A754-9F0E7769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12BE-0133-4B10-9B24-87E69E726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9F69E-01A5-45CB-A5C2-5DD1C6B96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13513-A419-4EDC-8235-2D40A1DF2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0BEA0-5317-471A-B528-96389FB01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65E95-E7FD-4689-8346-7EECE834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57871-BB82-4BBD-9AB9-F5168178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924DC-26C6-4A9E-BD98-C878387A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E070B-AA26-4275-8EC0-209D18C19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C2114-7C89-416B-A9B4-B900C32EF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CD038-9C3F-49C3-B6D6-B964AB0FC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71897-A73D-4CE9-AE7B-17FAE914A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D06B-3053-4F1C-84BA-FFFE7164E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51A1D-EAAF-4374-A447-6C992BD0C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1C761-BC95-4A8B-8C4A-37EDB12E1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936F9-6240-46D6-9A02-66CEDCC83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C31A2-9E88-4A12-93E4-84490BB14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7BCC4-BB51-44C7-9F66-75A2668BF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3A424-450A-494E-BCE5-F2554AB9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26121-B4CC-4C94-8A6A-863B6D6E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63D09-835C-4C1C-87B8-F3E28C2F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725507-75F8-4CEB-BDE4-A3E306DC8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0D052-9E73-4D5A-8BF1-60D9944CA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6B66-5A89-41A7-9F0D-8EDAA4A2B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A45E1-5811-489B-9970-E37B2AC56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9DAF-EC42-443B-BD49-46B7E9C9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F675-B5A0-4978-9067-B67CFEEF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F2B4-8532-4882-A559-2AC958B3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DE5BB-3A7D-4F4F-B1DB-5EA69143AD9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CCE89-B66C-42F1-863A-73BB0948222F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3EDCC-F71F-4ADB-A9FF-D65AB41EEB6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DB277-6361-496A-80DA-BCC973AF6D5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ED6C7-FC3B-4F54-8769-F31B793F8D1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500040" y="-396720"/>
            <a:ext cx="9094680" cy="14144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C:\Users\79995\Desktop\изонить\30 декабря -1 января «Звезда»\0871c417189d455c4f263f56f582de2f--string-pictures-stringart.jpg"/>
          <p:cNvPicPr/>
          <p:nvPr/>
        </p:nvPicPr>
        <p:blipFill>
          <a:blip r:embed="rId2"/>
          <a:stretch/>
        </p:blipFill>
        <p:spPr>
          <a:xfrm>
            <a:off x="1692360" y="1052640"/>
            <a:ext cx="5289480" cy="55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74437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МАТЕРИАЛЫ И ИНСТРУМЕНТ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Прямоугольник 3"/>
          <p:cNvSpPr/>
          <p:nvPr/>
        </p:nvSpPr>
        <p:spPr>
          <a:xfrm>
            <a:off x="142920" y="1285920"/>
            <a:ext cx="36432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Цветной кар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итки: </a:t>
            </a:r>
            <a:r>
              <a:rPr b="1" i="1" lang="ru-RU" sz="2400" spc="-1" strike="noStrike">
                <a:solidFill>
                  <a:srgbClr val="262626"/>
                </a:solidFill>
                <a:latin typeface="Constantia"/>
                <a:ea typeface="Times New Roman"/>
              </a:rPr>
              <a:t>ирис, мулине, обычные шве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ож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Иг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Лин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Скот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4932360" y="189000"/>
            <a:ext cx="2928960" cy="20397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2778120" cy="19288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"/>
          <p:cNvPicPr/>
          <p:nvPr/>
        </p:nvPicPr>
        <p:blipFill>
          <a:blip r:embed="rId3"/>
          <a:stretch/>
        </p:blipFill>
        <p:spPr>
          <a:xfrm>
            <a:off x="2484360" y="3716280"/>
            <a:ext cx="1604880" cy="25718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"/>
          <p:cNvPicPr/>
          <p:nvPr/>
        </p:nvPicPr>
        <p:blipFill>
          <a:blip r:embed="rId4"/>
          <a:stretch/>
        </p:blipFill>
        <p:spPr>
          <a:xfrm>
            <a:off x="5724360" y="4365720"/>
            <a:ext cx="2894040" cy="19288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"/>
          <p:cNvPicPr/>
          <p:nvPr/>
        </p:nvPicPr>
        <p:blipFill>
          <a:blip r:embed="rId5"/>
          <a:stretch/>
        </p:blipFill>
        <p:spPr>
          <a:xfrm>
            <a:off x="4211640" y="3789360"/>
            <a:ext cx="1282680" cy="2857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9" descr=""/>
          <p:cNvPicPr/>
          <p:nvPr/>
        </p:nvPicPr>
        <p:blipFill>
          <a:blip r:embed="rId6"/>
          <a:stretch/>
        </p:blipFill>
        <p:spPr>
          <a:xfrm>
            <a:off x="3564000" y="2421000"/>
            <a:ext cx="2136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02972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Элементы узор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63" name="Group 8"/>
          <p:cNvGrpSpPr/>
          <p:nvPr/>
        </p:nvGrpSpPr>
        <p:grpSpPr>
          <a:xfrm>
            <a:off x="3745080" y="2933640"/>
            <a:ext cx="1653840" cy="990720"/>
            <a:chOff x="3745080" y="2933640"/>
            <a:chExt cx="1653840" cy="990720"/>
          </a:xfrm>
        </p:grpSpPr>
        <p:sp>
          <p:nvSpPr>
            <p:cNvPr id="264" name="Rectangle 5"/>
            <p:cNvSpPr/>
            <p:nvPr/>
          </p:nvSpPr>
          <p:spPr>
            <a:xfrm>
              <a:off x="3745080" y="2933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6"/>
            <p:cNvSpPr/>
            <p:nvPr/>
          </p:nvSpPr>
          <p:spPr>
            <a:xfrm>
              <a:off x="3745080" y="2933640"/>
              <a:ext cx="16538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  </a:t>
              </a:r>
              <a:r>
                <a:rPr b="0" lang="ru-RU" sz="5900" spc="-1" strike="noStrike">
                  <a:solidFill>
                    <a:srgbClr val="663300"/>
                  </a:solidFill>
                  <a:latin typeface="Arial"/>
                </a:rPr>
                <a:t> </a:t>
              </a: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6" name="Picture 51" descr="1"/>
          <p:cNvPicPr/>
          <p:nvPr/>
        </p:nvPicPr>
        <p:blipFill>
          <a:blip r:embed="rId1"/>
          <a:stretch/>
        </p:blipFill>
        <p:spPr>
          <a:xfrm>
            <a:off x="2627280" y="2205000"/>
            <a:ext cx="3849840" cy="389736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52"/>
          <p:cNvSpPr/>
          <p:nvPr/>
        </p:nvSpPr>
        <p:spPr>
          <a:xfrm>
            <a:off x="1476360" y="1628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Д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54"/>
          <p:cNvSpPr/>
          <p:nvPr/>
        </p:nvSpPr>
        <p:spPr>
          <a:xfrm flipH="1">
            <a:off x="5940000" y="2924280"/>
            <a:ext cx="5763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5"/>
          <p:cNvSpPr/>
          <p:nvPr/>
        </p:nvSpPr>
        <p:spPr>
          <a:xfrm>
            <a:off x="6516720" y="2565360"/>
            <a:ext cx="11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56"/>
          <p:cNvSpPr/>
          <p:nvPr/>
        </p:nvSpPr>
        <p:spPr>
          <a:xfrm flipV="1">
            <a:off x="2843280" y="5949720"/>
            <a:ext cx="1800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7"/>
          <p:cNvSpPr/>
          <p:nvPr/>
        </p:nvSpPr>
        <p:spPr>
          <a:xfrm>
            <a:off x="1547640" y="5877000"/>
            <a:ext cx="115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У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58"/>
          <p:cNvSpPr/>
          <p:nvPr/>
        </p:nvSpPr>
        <p:spPr>
          <a:xfrm>
            <a:off x="2627280" y="220500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1" descr="tb_igly"/>
          <p:cNvPicPr/>
          <p:nvPr/>
        </p:nvPicPr>
        <p:blipFill>
          <a:blip r:embed="rId1"/>
          <a:stretch/>
        </p:blipFill>
        <p:spPr>
          <a:xfrm>
            <a:off x="7072200" y="500040"/>
            <a:ext cx="1862280" cy="221940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3"/>
          <p:cNvSpPr/>
          <p:nvPr/>
        </p:nvSpPr>
        <p:spPr>
          <a:xfrm>
            <a:off x="0" y="44640"/>
            <a:ext cx="9001080" cy="62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ПРАВИЛА ТЕХНИКИ БЕЗОПАСНОСТИ  ПРИ РАБОТЕ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ИГОЛКАМИ И БУЛАВ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иголки и булавки в игольниц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берите иголки  и булавки в 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ользуйтесь при работе ржавыми  иглами и булав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Во время работы не вкалывайте иголки и булавки в одеж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ерекусывайте нитку зубами — можно испортить эмаль и поранить гу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До и после работы проверь количество иг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Игла всегда должна быть с ниткой для того, чтобы ее легче было найти, если она потер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Сломанную иглу надо завернуть в плотную бумагу и выбро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500040" y="1425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ПРАВИЛА ТЕХНИКИ БЕЗОПАСНОСТИ ПРИ РАБОТЕ С НОЖНИЦ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" descr="tb_nozhnicy"/>
          <p:cNvPicPr/>
          <p:nvPr/>
        </p:nvPicPr>
        <p:blipFill>
          <a:blip r:embed="rId1"/>
          <a:stretch/>
        </p:blipFill>
        <p:spPr>
          <a:xfrm>
            <a:off x="7358040" y="4071960"/>
            <a:ext cx="1531800" cy="114300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3"/>
          <p:cNvSpPr/>
          <p:nvPr/>
        </p:nvSpPr>
        <p:spPr>
          <a:xfrm>
            <a:off x="214200" y="928800"/>
            <a:ext cx="8715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Во время работы быть внимательным, не отвлекаться и не отвлекать других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ножницы в определенном   месте, кладите их сомкнутыми  острыми концами от себя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ередавайте ножницы нужно кольцами вперед с сомкнутыми лезвиям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резать на ходу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ри работе с ножницами необходимо следить за движением и положением лезвий во время работы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214200"/>
            <a:ext cx="742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ОХРАНА ТРУДА. ПРАВИЛЬНАЯ ПОСАДКА ВО ВРЕМ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" descr="posadka"/>
          <p:cNvPicPr/>
          <p:nvPr/>
        </p:nvPicPr>
        <p:blipFill>
          <a:blip r:embed="rId1"/>
          <a:stretch/>
        </p:blipFill>
        <p:spPr>
          <a:xfrm>
            <a:off x="7429680" y="0"/>
            <a:ext cx="1660320" cy="157176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3"/>
          <p:cNvSpPr/>
          <p:nvPr/>
        </p:nvSpPr>
        <p:spPr>
          <a:xfrm>
            <a:off x="0" y="1314360"/>
            <a:ext cx="9001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оги должны твердо опираться всей подошвой об пол, так как при другом положении ног нарушается кровообращ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Свет должен падать слева или спере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опираться грудью на ст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уки должны быть согнуты в локтях и отставать от корпуса более чем на 1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асстояние от глаз до изделия или детали должно быть 30-4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В процессе работы следует периодически менять положение корпуса (из слегка согнутого к выпрямленному и обрат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Box 3"/>
          <p:cNvSpPr/>
          <p:nvPr/>
        </p:nvSpPr>
        <p:spPr>
          <a:xfrm>
            <a:off x="324000" y="40464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«Звезда»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5" descr="C:\Users\79995\Desktop\изонить\30 декабря -1 января «Звезда»\0871c417189d455c4f263f56f582de2f--string-pictures-stringart.jpg"/>
          <p:cNvPicPr/>
          <p:nvPr/>
        </p:nvPicPr>
        <p:blipFill>
          <a:blip r:embed="rId1"/>
          <a:stretch/>
        </p:blipFill>
        <p:spPr>
          <a:xfrm>
            <a:off x="0" y="1125360"/>
            <a:ext cx="4782960" cy="50230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6" descr="C:\Users\79995\Desktop\изонить\30 декабря -1 января «Звезда»\String-art-star-design.jpg"/>
          <p:cNvPicPr/>
          <p:nvPr/>
        </p:nvPicPr>
        <p:blipFill>
          <a:blip r:embed="rId2"/>
          <a:stretch/>
        </p:blipFill>
        <p:spPr>
          <a:xfrm>
            <a:off x="4640400" y="2565360"/>
            <a:ext cx="450360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Box 3"/>
          <p:cNvSpPr/>
          <p:nvPr/>
        </p:nvSpPr>
        <p:spPr>
          <a:xfrm>
            <a:off x="324000" y="40464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Arial"/>
              </a:rPr>
              <a:t>Пример работы ««Звезда»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5" descr="C:\Users\79995\Desktop\изонить\30 декабря -1 января «Звезда»\izonit_zvezda_shema_5.jpg"/>
          <p:cNvPicPr/>
          <p:nvPr/>
        </p:nvPicPr>
        <p:blipFill>
          <a:blip r:embed="rId1"/>
          <a:stretch/>
        </p:blipFill>
        <p:spPr>
          <a:xfrm>
            <a:off x="0" y="1268280"/>
            <a:ext cx="928836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Box 1"/>
          <p:cNvSpPr/>
          <p:nvPr/>
        </p:nvSpPr>
        <p:spPr>
          <a:xfrm>
            <a:off x="395280" y="260280"/>
            <a:ext cx="83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Схема для практической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4" descr="C:\Users\79995\Desktop\изонить\30 декабря -1 января «Звезда»\izonit_zvezda_shema_22.jpg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1T18:40:46Z</dcterms:created>
  <dc:creator>Екатерина</dc:creator>
  <dc:description/>
  <dc:language>en-US</dc:language>
  <cp:lastModifiedBy>79995678691</cp:lastModifiedBy>
  <dcterms:modified xsi:type="dcterms:W3CDTF">2020-12-27T08:50:35Z</dcterms:modified>
  <cp:revision>39</cp:revision>
  <dc:subject/>
  <dc:title>ТВОРЧЕСКАЯ ДЕЯТЕЛЬНОСТЬ: ЗНАКОМСТВО С ТЕХНИКОЙ ИЗОНИТЬ</dc:title>
</cp:coreProperties>
</file>